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48B-C6C5-4474-A460-ACC92BDA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B11-F3B6-4AA4-B0B0-F6014C86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EEA-AA0E-41B0-86C2-643FEAC3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608-2A16-4647-9177-DC0B850A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4AB-3B6B-4DBC-85D2-746605A2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492-C88C-4089-BDFC-01FA910D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394-1836-442C-AB02-6E01733D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079-220E-4CE0-BD6E-50A7CA0E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4E1-B7EE-46A0-AA5C-C47B2FBA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7C6-E689-4144-8032-8644978A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861-0D54-4777-9154-81728DCE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F4E-E735-4F28-8BC6-5044E8A7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37F2-1A90-49EB-874B-D24259833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40" y="12193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unit rate for each rate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95280" y="1752480"/>
                <a:ext cx="7621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808200" y="325116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68440" y="3257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00200" y="3200400"/>
                <a:ext cx="7063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20800" y="4759200"/>
            <a:ext cx="18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0360" y="4759200"/>
            <a:ext cx="65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aseball team scores 3 runs in the first inning.  If they score at the same rate in each inning, what will their score be after 7 innin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120" y="3224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41" y="8954"/>
                </a:moveTo>
                <a:lnTo>
                  <a:pt x="1141" y="895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7040" y="3581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63" y="9947"/>
                </a:moveTo>
                <a:lnTo>
                  <a:pt x="1463" y="994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0880" y="2562120"/>
            <a:ext cx="90360" cy="125640"/>
          </a:xfrm>
          <a:custGeom>
            <a:avLst/>
            <a:gdLst/>
            <a:ahLst/>
            <a:rect l="l" t="t" r="r" b="b"/>
            <a:pathLst>
              <a:path w="249" h="348">
                <a:moveTo>
                  <a:pt x="5060" y="7268"/>
                </a:moveTo>
                <a:cubicBezTo>
                  <a:pt x="5149" y="7219"/>
                  <a:pt x="5216" y="7199"/>
                  <a:pt x="5308" y="7169"/>
                </a:cubicBezTo>
              </a:path>
              <a:path w="249" h="348">
                <a:moveTo>
                  <a:pt x="5135" y="7119"/>
                </a:moveTo>
                <a:lnTo>
                  <a:pt x="5135" y="7119"/>
                </a:lnTo>
              </a:path>
              <a:path w="249" h="348">
                <a:moveTo>
                  <a:pt x="5308" y="7466"/>
                </a:moveTo>
                <a:lnTo>
                  <a:pt x="5308" y="746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09880" y="2517840"/>
            <a:ext cx="88920" cy="162000"/>
          </a:xfrm>
          <a:custGeom>
            <a:avLst/>
            <a:gdLst/>
            <a:ahLst/>
            <a:rect l="l" t="t" r="r" b="b"/>
            <a:pathLst>
              <a:path w="249" h="447">
                <a:moveTo>
                  <a:pt x="5755" y="6995"/>
                </a:moveTo>
                <a:cubicBezTo>
                  <a:pt x="5627" y="7059"/>
                  <a:pt x="5550" y="7073"/>
                  <a:pt x="5581" y="7243"/>
                </a:cubicBezTo>
                <a:cubicBezTo>
                  <a:pt x="5589" y="7251"/>
                  <a:pt x="5598" y="7260"/>
                  <a:pt x="5606" y="7268"/>
                </a:cubicBezTo>
                <a:cubicBezTo>
                  <a:pt x="5652" y="7222"/>
                  <a:pt x="5738" y="7132"/>
                  <a:pt x="5804" y="7218"/>
                </a:cubicBezTo>
                <a:cubicBezTo>
                  <a:pt x="5916" y="7363"/>
                  <a:pt x="5721" y="7424"/>
                  <a:pt x="5631" y="741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7880" y="1776240"/>
            <a:ext cx="268200" cy="287640"/>
          </a:xfrm>
          <a:custGeom>
            <a:avLst/>
            <a:gdLst/>
            <a:ahLst/>
            <a:rect l="l" t="t" r="r" b="b"/>
            <a:pathLst>
              <a:path w="745" h="795">
                <a:moveTo>
                  <a:pt x="5135" y="5531"/>
                </a:moveTo>
                <a:cubicBezTo>
                  <a:pt x="5207" y="5522"/>
                  <a:pt x="5261" y="5488"/>
                  <a:pt x="5333" y="5482"/>
                </a:cubicBezTo>
                <a:cubicBezTo>
                  <a:pt x="5341" y="5482"/>
                  <a:pt x="5350" y="5482"/>
                  <a:pt x="5358" y="5482"/>
                </a:cubicBezTo>
              </a:path>
              <a:path w="745" h="795">
                <a:moveTo>
                  <a:pt x="5259" y="5333"/>
                </a:moveTo>
                <a:lnTo>
                  <a:pt x="5259" y="5333"/>
                </a:lnTo>
              </a:path>
              <a:path w="745" h="795">
                <a:moveTo>
                  <a:pt x="5333" y="5730"/>
                </a:moveTo>
                <a:lnTo>
                  <a:pt x="5333" y="5730"/>
                </a:lnTo>
              </a:path>
              <a:path w="745" h="795">
                <a:moveTo>
                  <a:pt x="5779" y="4936"/>
                </a:moveTo>
                <a:cubicBezTo>
                  <a:pt x="5649" y="5035"/>
                  <a:pt x="5614" y="5033"/>
                  <a:pt x="5631" y="5184"/>
                </a:cubicBezTo>
                <a:cubicBezTo>
                  <a:pt x="5631" y="5192"/>
                  <a:pt x="5631" y="5201"/>
                  <a:pt x="5631" y="5209"/>
                </a:cubicBezTo>
                <a:cubicBezTo>
                  <a:pt x="5747" y="5196"/>
                  <a:pt x="5895" y="5104"/>
                  <a:pt x="5879" y="5308"/>
                </a:cubicBezTo>
                <a:cubicBezTo>
                  <a:pt x="5869" y="5442"/>
                  <a:pt x="5767" y="5534"/>
                  <a:pt x="5655" y="55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86040" y="1839960"/>
            <a:ext cx="231840" cy="374760"/>
          </a:xfrm>
          <a:custGeom>
            <a:avLst/>
            <a:gdLst/>
            <a:ahLst/>
            <a:rect l="l" t="t" r="r" b="b"/>
            <a:pathLst>
              <a:path w="646" h="1043">
                <a:moveTo>
                  <a:pt x="8359" y="5110"/>
                </a:moveTo>
                <a:cubicBezTo>
                  <a:pt x="8272" y="5130"/>
                  <a:pt x="7825" y="5162"/>
                  <a:pt x="7789" y="5234"/>
                </a:cubicBezTo>
                <a:cubicBezTo>
                  <a:pt x="7743" y="5327"/>
                  <a:pt x="7853" y="5504"/>
                  <a:pt x="7863" y="5606"/>
                </a:cubicBezTo>
                <a:cubicBezTo>
                  <a:pt x="7974" y="5527"/>
                  <a:pt x="8074" y="5487"/>
                  <a:pt x="8210" y="5531"/>
                </a:cubicBezTo>
                <a:cubicBezTo>
                  <a:pt x="8348" y="5576"/>
                  <a:pt x="8449" y="5794"/>
                  <a:pt x="8359" y="5928"/>
                </a:cubicBezTo>
                <a:cubicBezTo>
                  <a:pt x="8252" y="6087"/>
                  <a:pt x="7937" y="6229"/>
                  <a:pt x="7764" y="6102"/>
                </a:cubicBezTo>
                <a:cubicBezTo>
                  <a:pt x="7756" y="6077"/>
                  <a:pt x="7747" y="6053"/>
                  <a:pt x="7739" y="60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5240" y="2232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208" y="6201"/>
                </a:moveTo>
                <a:lnTo>
                  <a:pt x="2208" y="620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28800" y="1633680"/>
            <a:ext cx="527040" cy="268200"/>
          </a:xfrm>
          <a:custGeom>
            <a:avLst/>
            <a:gdLst/>
            <a:ahLst/>
            <a:rect l="l" t="t" r="r" b="b"/>
            <a:pathLst>
              <a:path w="1464" h="745">
                <a:moveTo>
                  <a:pt x="2828" y="4986"/>
                </a:moveTo>
                <a:cubicBezTo>
                  <a:pt x="2751" y="4909"/>
                  <a:pt x="2733" y="4960"/>
                  <a:pt x="2654" y="5035"/>
                </a:cubicBezTo>
                <a:cubicBezTo>
                  <a:pt x="2637" y="5052"/>
                  <a:pt x="2621" y="5068"/>
                  <a:pt x="2604" y="5085"/>
                </a:cubicBezTo>
                <a:cubicBezTo>
                  <a:pt x="2596" y="5093"/>
                  <a:pt x="2588" y="5102"/>
                  <a:pt x="2580" y="5110"/>
                </a:cubicBezTo>
                <a:cubicBezTo>
                  <a:pt x="2687" y="5132"/>
                  <a:pt x="2711" y="5140"/>
                  <a:pt x="2778" y="5135"/>
                </a:cubicBezTo>
                <a:cubicBezTo>
                  <a:pt x="2789" y="5182"/>
                  <a:pt x="2769" y="5376"/>
                  <a:pt x="2654" y="5283"/>
                </a:cubicBezTo>
                <a:cubicBezTo>
                  <a:pt x="2654" y="5267"/>
                  <a:pt x="2654" y="5250"/>
                  <a:pt x="2654" y="5234"/>
                </a:cubicBezTo>
              </a:path>
              <a:path w="1464" h="745">
                <a:moveTo>
                  <a:pt x="2927" y="4961"/>
                </a:moveTo>
                <a:cubicBezTo>
                  <a:pt x="3039" y="5073"/>
                  <a:pt x="3066" y="5104"/>
                  <a:pt x="3150" y="5159"/>
                </a:cubicBezTo>
              </a:path>
              <a:path w="1464" h="745">
                <a:moveTo>
                  <a:pt x="2902" y="4911"/>
                </a:moveTo>
                <a:cubicBezTo>
                  <a:pt x="2987" y="4832"/>
                  <a:pt x="3235" y="4627"/>
                  <a:pt x="3274" y="4887"/>
                </a:cubicBezTo>
                <a:cubicBezTo>
                  <a:pt x="3294" y="5021"/>
                  <a:pt x="3185" y="5021"/>
                  <a:pt x="3101" y="5035"/>
                </a:cubicBezTo>
              </a:path>
              <a:path w="1464" h="745">
                <a:moveTo>
                  <a:pt x="3324" y="4911"/>
                </a:moveTo>
                <a:cubicBezTo>
                  <a:pt x="3439" y="4818"/>
                  <a:pt x="3467" y="4785"/>
                  <a:pt x="3423" y="4638"/>
                </a:cubicBezTo>
                <a:cubicBezTo>
                  <a:pt x="3431" y="4703"/>
                  <a:pt x="3446" y="4907"/>
                  <a:pt x="3522" y="4787"/>
                </a:cubicBezTo>
                <a:cubicBezTo>
                  <a:pt x="3623" y="4627"/>
                  <a:pt x="3621" y="4736"/>
                  <a:pt x="3696" y="4862"/>
                </a:cubicBezTo>
                <a:cubicBezTo>
                  <a:pt x="3675" y="4779"/>
                  <a:pt x="3667" y="4764"/>
                  <a:pt x="3671" y="4713"/>
                </a:cubicBezTo>
                <a:cubicBezTo>
                  <a:pt x="3755" y="4792"/>
                  <a:pt x="3815" y="4866"/>
                  <a:pt x="3894" y="4936"/>
                </a:cubicBezTo>
              </a:path>
              <a:path w="1464" h="745">
                <a:moveTo>
                  <a:pt x="3845" y="4539"/>
                </a:moveTo>
                <a:cubicBezTo>
                  <a:pt x="3905" y="4660"/>
                  <a:pt x="3965" y="4753"/>
                  <a:pt x="4043" y="4862"/>
                </a:cubicBezTo>
              </a:path>
              <a:path w="1464" h="745">
                <a:moveTo>
                  <a:pt x="3894" y="4812"/>
                </a:moveTo>
                <a:cubicBezTo>
                  <a:pt x="3977" y="4730"/>
                  <a:pt x="3994" y="4713"/>
                  <a:pt x="4043" y="46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880" y="2473200"/>
            <a:ext cx="546120" cy="411120"/>
          </a:xfrm>
          <a:custGeom>
            <a:avLst/>
            <a:gdLst/>
            <a:ahLst/>
            <a:rect l="l" t="t" r="r" b="b"/>
            <a:pathLst>
              <a:path w="1514" h="1142">
                <a:moveTo>
                  <a:pt x="2084" y="7640"/>
                </a:moveTo>
                <a:cubicBezTo>
                  <a:pt x="2177" y="7763"/>
                  <a:pt x="2266" y="7887"/>
                  <a:pt x="2356" y="8012"/>
                </a:cubicBezTo>
              </a:path>
              <a:path w="1514" h="1142">
                <a:moveTo>
                  <a:pt x="2034" y="7615"/>
                </a:moveTo>
                <a:cubicBezTo>
                  <a:pt x="2173" y="7551"/>
                  <a:pt x="2489" y="7415"/>
                  <a:pt x="2356" y="7739"/>
                </a:cubicBezTo>
                <a:cubicBezTo>
                  <a:pt x="2292" y="7825"/>
                  <a:pt x="2284" y="7858"/>
                  <a:pt x="2208" y="7838"/>
                </a:cubicBezTo>
              </a:path>
              <a:path w="1514" h="1142">
                <a:moveTo>
                  <a:pt x="2480" y="7516"/>
                </a:moveTo>
                <a:cubicBezTo>
                  <a:pt x="2505" y="7532"/>
                  <a:pt x="2530" y="7549"/>
                  <a:pt x="2555" y="7565"/>
                </a:cubicBezTo>
              </a:path>
              <a:path w="1514" h="1142">
                <a:moveTo>
                  <a:pt x="2307" y="7417"/>
                </a:moveTo>
                <a:lnTo>
                  <a:pt x="2307" y="7417"/>
                </a:lnTo>
              </a:path>
              <a:path w="1514" h="1142">
                <a:moveTo>
                  <a:pt x="2505" y="7342"/>
                </a:moveTo>
                <a:cubicBezTo>
                  <a:pt x="2600" y="7301"/>
                  <a:pt x="2778" y="7176"/>
                  <a:pt x="2778" y="7367"/>
                </a:cubicBezTo>
                <a:cubicBezTo>
                  <a:pt x="2778" y="7516"/>
                  <a:pt x="2657" y="7583"/>
                  <a:pt x="2877" y="7392"/>
                </a:cubicBezTo>
              </a:path>
              <a:path w="1514" h="1142">
                <a:moveTo>
                  <a:pt x="2828" y="7218"/>
                </a:moveTo>
                <a:cubicBezTo>
                  <a:pt x="2852" y="7147"/>
                  <a:pt x="2859" y="7124"/>
                  <a:pt x="2902" y="7094"/>
                </a:cubicBezTo>
                <a:cubicBezTo>
                  <a:pt x="2942" y="7185"/>
                  <a:pt x="2967" y="7244"/>
                  <a:pt x="2977" y="7342"/>
                </a:cubicBezTo>
                <a:cubicBezTo>
                  <a:pt x="3068" y="7342"/>
                  <a:pt x="3102" y="7329"/>
                  <a:pt x="3125" y="7243"/>
                </a:cubicBezTo>
              </a:path>
              <a:path w="1514" h="1142">
                <a:moveTo>
                  <a:pt x="3274" y="6871"/>
                </a:moveTo>
                <a:cubicBezTo>
                  <a:pt x="3192" y="6999"/>
                  <a:pt x="3197" y="7011"/>
                  <a:pt x="3225" y="7169"/>
                </a:cubicBezTo>
                <a:cubicBezTo>
                  <a:pt x="3362" y="7119"/>
                  <a:pt x="3316" y="6945"/>
                  <a:pt x="3448" y="6945"/>
                </a:cubicBezTo>
                <a:cubicBezTo>
                  <a:pt x="3481" y="6953"/>
                  <a:pt x="3514" y="6962"/>
                  <a:pt x="3547" y="69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89160" y="1795320"/>
            <a:ext cx="268560" cy="196920"/>
          </a:xfrm>
          <a:custGeom>
            <a:avLst/>
            <a:gdLst/>
            <a:ahLst/>
            <a:rect l="l" t="t" r="r" b="b"/>
            <a:pathLst>
              <a:path w="746" h="546">
                <a:moveTo>
                  <a:pt x="8582" y="5234"/>
                </a:moveTo>
                <a:cubicBezTo>
                  <a:pt x="8640" y="5292"/>
                  <a:pt x="8698" y="5349"/>
                  <a:pt x="8756" y="5407"/>
                </a:cubicBezTo>
              </a:path>
              <a:path w="746" h="546">
                <a:moveTo>
                  <a:pt x="8682" y="5209"/>
                </a:moveTo>
                <a:cubicBezTo>
                  <a:pt x="8648" y="5318"/>
                  <a:pt x="8639" y="5427"/>
                  <a:pt x="8607" y="5531"/>
                </a:cubicBezTo>
              </a:path>
              <a:path w="746" h="546">
                <a:moveTo>
                  <a:pt x="8806" y="5011"/>
                </a:moveTo>
                <a:cubicBezTo>
                  <a:pt x="8817" y="5120"/>
                  <a:pt x="8847" y="5224"/>
                  <a:pt x="8855" y="5333"/>
                </a:cubicBezTo>
              </a:path>
              <a:path w="746" h="546">
                <a:moveTo>
                  <a:pt x="9004" y="5011"/>
                </a:moveTo>
                <a:cubicBezTo>
                  <a:pt x="9112" y="4984"/>
                  <a:pt x="9248" y="4985"/>
                  <a:pt x="9178" y="5159"/>
                </a:cubicBezTo>
                <a:cubicBezTo>
                  <a:pt x="9106" y="5255"/>
                  <a:pt x="9083" y="5284"/>
                  <a:pt x="9054" y="5358"/>
                </a:cubicBezTo>
                <a:cubicBezTo>
                  <a:pt x="9139" y="5379"/>
                  <a:pt x="9230" y="5347"/>
                  <a:pt x="9327" y="53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62160" y="2527200"/>
            <a:ext cx="304920" cy="160560"/>
          </a:xfrm>
          <a:custGeom>
            <a:avLst/>
            <a:gdLst/>
            <a:ahLst/>
            <a:rect l="l" t="t" r="r" b="b"/>
            <a:pathLst>
              <a:path w="844" h="447">
                <a:moveTo>
                  <a:pt x="8508" y="7144"/>
                </a:moveTo>
                <a:cubicBezTo>
                  <a:pt x="8583" y="7087"/>
                  <a:pt x="8680" y="7200"/>
                  <a:pt x="8756" y="7243"/>
                </a:cubicBezTo>
              </a:path>
              <a:path w="844" h="447">
                <a:moveTo>
                  <a:pt x="8632" y="7144"/>
                </a:moveTo>
                <a:cubicBezTo>
                  <a:pt x="8606" y="7257"/>
                  <a:pt x="8575" y="7356"/>
                  <a:pt x="8558" y="7466"/>
                </a:cubicBezTo>
              </a:path>
              <a:path w="844" h="447">
                <a:moveTo>
                  <a:pt x="8830" y="7045"/>
                </a:moveTo>
                <a:cubicBezTo>
                  <a:pt x="8881" y="7138"/>
                  <a:pt x="8897" y="7187"/>
                  <a:pt x="8905" y="7293"/>
                </a:cubicBezTo>
              </a:path>
              <a:path w="844" h="447">
                <a:moveTo>
                  <a:pt x="9029" y="7069"/>
                </a:moveTo>
                <a:cubicBezTo>
                  <a:pt x="9110" y="7029"/>
                  <a:pt x="9123" y="7013"/>
                  <a:pt x="9178" y="7020"/>
                </a:cubicBezTo>
                <a:cubicBezTo>
                  <a:pt x="9267" y="7153"/>
                  <a:pt x="9193" y="7177"/>
                  <a:pt x="9128" y="7293"/>
                </a:cubicBezTo>
                <a:cubicBezTo>
                  <a:pt x="9091" y="7359"/>
                  <a:pt x="9328" y="7254"/>
                  <a:pt x="9351" y="7243"/>
                </a:cubicBezTo>
              </a:path>
              <a:path w="844" h="447">
                <a:moveTo>
                  <a:pt x="8682" y="7169"/>
                </a:moveTo>
                <a:cubicBezTo>
                  <a:pt x="8682" y="7053"/>
                  <a:pt x="8695" y="7068"/>
                  <a:pt x="8657" y="71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24200" y="1955880"/>
            <a:ext cx="534960" cy="696960"/>
          </a:xfrm>
          <a:custGeom>
            <a:avLst/>
            <a:gdLst/>
            <a:ahLst/>
            <a:rect l="l" t="t" r="r" b="b"/>
            <a:pathLst>
              <a:path w="1489" h="1936">
                <a:moveTo>
                  <a:pt x="10344" y="6548"/>
                </a:moveTo>
                <a:cubicBezTo>
                  <a:pt x="10609" y="6605"/>
                  <a:pt x="10914" y="6547"/>
                  <a:pt x="11187" y="6524"/>
                </a:cubicBezTo>
                <a:cubicBezTo>
                  <a:pt x="11395" y="6506"/>
                  <a:pt x="11599" y="6474"/>
                  <a:pt x="11807" y="6474"/>
                </a:cubicBezTo>
                <a:cubicBezTo>
                  <a:pt x="11815" y="6474"/>
                  <a:pt x="11824" y="6474"/>
                  <a:pt x="11832" y="6474"/>
                </a:cubicBezTo>
              </a:path>
              <a:path w="1489" h="1936">
                <a:moveTo>
                  <a:pt x="10840" y="6896"/>
                </a:moveTo>
                <a:cubicBezTo>
                  <a:pt x="10869" y="7057"/>
                  <a:pt x="10871" y="7207"/>
                  <a:pt x="10840" y="7367"/>
                </a:cubicBezTo>
              </a:path>
              <a:path w="1489" h="1936">
                <a:moveTo>
                  <a:pt x="11137" y="6921"/>
                </a:moveTo>
                <a:cubicBezTo>
                  <a:pt x="11284" y="6868"/>
                  <a:pt x="11354" y="6817"/>
                  <a:pt x="11485" y="6896"/>
                </a:cubicBezTo>
                <a:cubicBezTo>
                  <a:pt x="11431" y="7056"/>
                  <a:pt x="11374" y="7164"/>
                  <a:pt x="11261" y="7293"/>
                </a:cubicBezTo>
                <a:cubicBezTo>
                  <a:pt x="11395" y="7256"/>
                  <a:pt x="11530" y="7219"/>
                  <a:pt x="11658" y="7169"/>
                </a:cubicBezTo>
              </a:path>
              <a:path w="1489" h="1936">
                <a:moveTo>
                  <a:pt x="10517" y="5432"/>
                </a:moveTo>
                <a:cubicBezTo>
                  <a:pt x="10437" y="5650"/>
                  <a:pt x="10303" y="5936"/>
                  <a:pt x="10344" y="6176"/>
                </a:cubicBezTo>
                <a:cubicBezTo>
                  <a:pt x="10360" y="6209"/>
                  <a:pt x="10377" y="6243"/>
                  <a:pt x="10393" y="6276"/>
                </a:cubicBezTo>
                <a:cubicBezTo>
                  <a:pt x="10536" y="6240"/>
                  <a:pt x="10787" y="6197"/>
                  <a:pt x="10815" y="6003"/>
                </a:cubicBezTo>
                <a:cubicBezTo>
                  <a:pt x="10807" y="5978"/>
                  <a:pt x="10798" y="5953"/>
                  <a:pt x="10790" y="5928"/>
                </a:cubicBezTo>
                <a:cubicBezTo>
                  <a:pt x="10630" y="5862"/>
                  <a:pt x="10554" y="5938"/>
                  <a:pt x="10517" y="6127"/>
                </a:cubicBezTo>
                <a:cubicBezTo>
                  <a:pt x="10493" y="6250"/>
                  <a:pt x="10506" y="6276"/>
                  <a:pt x="10592" y="6300"/>
                </a:cubicBezTo>
              </a:path>
              <a:path w="1489" h="1936">
                <a:moveTo>
                  <a:pt x="11038" y="5606"/>
                </a:moveTo>
                <a:cubicBezTo>
                  <a:pt x="10922" y="5562"/>
                  <a:pt x="10901" y="5588"/>
                  <a:pt x="10864" y="5730"/>
                </a:cubicBezTo>
                <a:cubicBezTo>
                  <a:pt x="10830" y="5862"/>
                  <a:pt x="10752" y="6135"/>
                  <a:pt x="10864" y="6251"/>
                </a:cubicBezTo>
                <a:cubicBezTo>
                  <a:pt x="10983" y="6373"/>
                  <a:pt x="11177" y="6241"/>
                  <a:pt x="11237" y="6127"/>
                </a:cubicBezTo>
                <a:cubicBezTo>
                  <a:pt x="11299" y="6010"/>
                  <a:pt x="11298" y="5898"/>
                  <a:pt x="11212" y="5804"/>
                </a:cubicBezTo>
                <a:cubicBezTo>
                  <a:pt x="11137" y="5723"/>
                  <a:pt x="11045" y="5688"/>
                  <a:pt x="10939" y="5680"/>
                </a:cubicBezTo>
                <a:cubicBezTo>
                  <a:pt x="10931" y="5680"/>
                  <a:pt x="10922" y="5680"/>
                  <a:pt x="10914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0000" y="2295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2998" y="6375"/>
                </a:moveTo>
                <a:lnTo>
                  <a:pt x="12998" y="637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72040" y="1857240"/>
            <a:ext cx="1687680" cy="687600"/>
          </a:xfrm>
          <a:custGeom>
            <a:avLst/>
            <a:gdLst/>
            <a:ahLst/>
            <a:rect l="l" t="t" r="r" b="b"/>
            <a:pathLst>
              <a:path w="4689" h="1911">
                <a:moveTo>
                  <a:pt x="14858" y="5209"/>
                </a:moveTo>
                <a:cubicBezTo>
                  <a:pt x="14691" y="5233"/>
                  <a:pt x="14499" y="5218"/>
                  <a:pt x="14337" y="5259"/>
                </a:cubicBezTo>
                <a:cubicBezTo>
                  <a:pt x="14286" y="5272"/>
                  <a:pt x="14354" y="5625"/>
                  <a:pt x="14362" y="5680"/>
                </a:cubicBezTo>
                <a:cubicBezTo>
                  <a:pt x="14362" y="5697"/>
                  <a:pt x="14362" y="5713"/>
                  <a:pt x="14362" y="5730"/>
                </a:cubicBezTo>
                <a:cubicBezTo>
                  <a:pt x="14495" y="5676"/>
                  <a:pt x="14538" y="5534"/>
                  <a:pt x="14709" y="5507"/>
                </a:cubicBezTo>
                <a:cubicBezTo>
                  <a:pt x="14734" y="5515"/>
                  <a:pt x="14759" y="5523"/>
                  <a:pt x="14784" y="5531"/>
                </a:cubicBezTo>
                <a:cubicBezTo>
                  <a:pt x="14828" y="5775"/>
                  <a:pt x="14765" y="5998"/>
                  <a:pt x="14461" y="6052"/>
                </a:cubicBezTo>
                <a:cubicBezTo>
                  <a:pt x="14411" y="6044"/>
                  <a:pt x="14362" y="6036"/>
                  <a:pt x="14312" y="6028"/>
                </a:cubicBezTo>
              </a:path>
              <a:path w="4689" h="1911">
                <a:moveTo>
                  <a:pt x="14089" y="6201"/>
                </a:moveTo>
                <a:cubicBezTo>
                  <a:pt x="14395" y="6189"/>
                  <a:pt x="14702" y="6153"/>
                  <a:pt x="15007" y="6127"/>
                </a:cubicBezTo>
                <a:cubicBezTo>
                  <a:pt x="15164" y="6107"/>
                  <a:pt x="15188" y="6099"/>
                  <a:pt x="15280" y="6102"/>
                </a:cubicBezTo>
              </a:path>
              <a:path w="4689" h="1911">
                <a:moveTo>
                  <a:pt x="14610" y="6350"/>
                </a:moveTo>
                <a:cubicBezTo>
                  <a:pt x="14602" y="6589"/>
                  <a:pt x="14604" y="6837"/>
                  <a:pt x="14560" y="7069"/>
                </a:cubicBezTo>
              </a:path>
              <a:path w="4689" h="1911">
                <a:moveTo>
                  <a:pt x="15453" y="6251"/>
                </a:moveTo>
                <a:cubicBezTo>
                  <a:pt x="15611" y="6245"/>
                  <a:pt x="15766" y="6226"/>
                  <a:pt x="15925" y="6226"/>
                </a:cubicBezTo>
              </a:path>
              <a:path w="4689" h="1911">
                <a:moveTo>
                  <a:pt x="15429" y="6499"/>
                </a:moveTo>
                <a:cubicBezTo>
                  <a:pt x="15581" y="6514"/>
                  <a:pt x="15720" y="6499"/>
                  <a:pt x="15875" y="6499"/>
                </a:cubicBezTo>
              </a:path>
              <a:path w="4689" h="1911">
                <a:moveTo>
                  <a:pt x="16818" y="5308"/>
                </a:moveTo>
                <a:cubicBezTo>
                  <a:pt x="16773" y="5428"/>
                  <a:pt x="16819" y="5808"/>
                  <a:pt x="16793" y="6028"/>
                </a:cubicBezTo>
                <a:cubicBezTo>
                  <a:pt x="16785" y="6044"/>
                  <a:pt x="16776" y="6061"/>
                  <a:pt x="16768" y="6077"/>
                </a:cubicBezTo>
              </a:path>
              <a:path w="4689" h="1911">
                <a:moveTo>
                  <a:pt x="17239" y="5259"/>
                </a:moveTo>
                <a:cubicBezTo>
                  <a:pt x="17239" y="5294"/>
                  <a:pt x="17244" y="5311"/>
                  <a:pt x="17264" y="5333"/>
                </a:cubicBezTo>
                <a:cubicBezTo>
                  <a:pt x="17356" y="5254"/>
                  <a:pt x="17506" y="5112"/>
                  <a:pt x="17636" y="5184"/>
                </a:cubicBezTo>
                <a:cubicBezTo>
                  <a:pt x="17796" y="5272"/>
                  <a:pt x="17581" y="5683"/>
                  <a:pt x="17562" y="5755"/>
                </a:cubicBezTo>
                <a:cubicBezTo>
                  <a:pt x="17524" y="5905"/>
                  <a:pt x="17530" y="5927"/>
                  <a:pt x="17487" y="6003"/>
                </a:cubicBezTo>
              </a:path>
              <a:path w="4689" h="1911">
                <a:moveTo>
                  <a:pt x="18306" y="5283"/>
                </a:moveTo>
                <a:cubicBezTo>
                  <a:pt x="18198" y="5308"/>
                  <a:pt x="18067" y="5255"/>
                  <a:pt x="18008" y="5358"/>
                </a:cubicBezTo>
                <a:cubicBezTo>
                  <a:pt x="17971" y="5422"/>
                  <a:pt x="17983" y="5510"/>
                  <a:pt x="17983" y="5581"/>
                </a:cubicBezTo>
                <a:cubicBezTo>
                  <a:pt x="18091" y="5564"/>
                  <a:pt x="18258" y="5447"/>
                  <a:pt x="18355" y="5556"/>
                </a:cubicBezTo>
                <a:cubicBezTo>
                  <a:pt x="18536" y="5760"/>
                  <a:pt x="18365" y="5927"/>
                  <a:pt x="18157" y="5953"/>
                </a:cubicBezTo>
                <a:cubicBezTo>
                  <a:pt x="17992" y="5953"/>
                  <a:pt x="17942" y="5953"/>
                  <a:pt x="17835" y="5953"/>
                </a:cubicBezTo>
              </a:path>
              <a:path w="4689" h="1911">
                <a:moveTo>
                  <a:pt x="16718" y="6300"/>
                </a:moveTo>
                <a:cubicBezTo>
                  <a:pt x="17063" y="6221"/>
                  <a:pt x="17407" y="6262"/>
                  <a:pt x="17760" y="6251"/>
                </a:cubicBezTo>
                <a:cubicBezTo>
                  <a:pt x="18105" y="6240"/>
                  <a:pt x="18433" y="6241"/>
                  <a:pt x="18777" y="62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67240" y="2473200"/>
            <a:ext cx="463680" cy="196920"/>
          </a:xfrm>
          <a:custGeom>
            <a:avLst/>
            <a:gdLst/>
            <a:ahLst/>
            <a:rect l="l" t="t" r="r" b="b"/>
            <a:pathLst>
              <a:path w="1290" h="547">
                <a:moveTo>
                  <a:pt x="14908" y="7045"/>
                </a:moveTo>
                <a:cubicBezTo>
                  <a:pt x="15006" y="7118"/>
                  <a:pt x="15043" y="7163"/>
                  <a:pt x="15106" y="7268"/>
                </a:cubicBezTo>
              </a:path>
              <a:path w="1290" h="547">
                <a:moveTo>
                  <a:pt x="15032" y="7069"/>
                </a:moveTo>
                <a:cubicBezTo>
                  <a:pt x="14961" y="7233"/>
                  <a:pt x="14940" y="7281"/>
                  <a:pt x="14908" y="7392"/>
                </a:cubicBezTo>
              </a:path>
              <a:path w="1290" h="547">
                <a:moveTo>
                  <a:pt x="15354" y="6995"/>
                </a:moveTo>
                <a:cubicBezTo>
                  <a:pt x="15394" y="6988"/>
                  <a:pt x="15623" y="6922"/>
                  <a:pt x="15627" y="6995"/>
                </a:cubicBezTo>
                <a:cubicBezTo>
                  <a:pt x="15564" y="7088"/>
                  <a:pt x="15529" y="7128"/>
                  <a:pt x="15453" y="7169"/>
                </a:cubicBezTo>
                <a:cubicBezTo>
                  <a:pt x="15539" y="7242"/>
                  <a:pt x="15696" y="7081"/>
                  <a:pt x="15701" y="7193"/>
                </a:cubicBezTo>
                <a:cubicBezTo>
                  <a:pt x="15710" y="7414"/>
                  <a:pt x="15409" y="7406"/>
                  <a:pt x="15280" y="7392"/>
                </a:cubicBezTo>
              </a:path>
              <a:path w="1290" h="547">
                <a:moveTo>
                  <a:pt x="15974" y="6871"/>
                </a:moveTo>
                <a:cubicBezTo>
                  <a:pt x="15877" y="6915"/>
                  <a:pt x="15811" y="6951"/>
                  <a:pt x="15776" y="7045"/>
                </a:cubicBezTo>
                <a:cubicBezTo>
                  <a:pt x="15943" y="7080"/>
                  <a:pt x="16055" y="7074"/>
                  <a:pt x="16197" y="7169"/>
                </a:cubicBezTo>
                <a:cubicBezTo>
                  <a:pt x="16074" y="7258"/>
                  <a:pt x="16005" y="7263"/>
                  <a:pt x="15850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24760" y="2330280"/>
            <a:ext cx="428400" cy="214560"/>
          </a:xfrm>
          <a:custGeom>
            <a:avLst/>
            <a:gdLst/>
            <a:ahLst/>
            <a:rect l="l" t="t" r="r" b="b"/>
            <a:pathLst>
              <a:path w="1191" h="596">
                <a:moveTo>
                  <a:pt x="17289" y="6598"/>
                </a:moveTo>
                <a:cubicBezTo>
                  <a:pt x="17363" y="6565"/>
                  <a:pt x="17626" y="6472"/>
                  <a:pt x="17686" y="6598"/>
                </a:cubicBezTo>
                <a:cubicBezTo>
                  <a:pt x="17756" y="6744"/>
                  <a:pt x="17430" y="6801"/>
                  <a:pt x="17388" y="6796"/>
                </a:cubicBezTo>
                <a:cubicBezTo>
                  <a:pt x="17611" y="6702"/>
                  <a:pt x="17708" y="6728"/>
                  <a:pt x="17810" y="6921"/>
                </a:cubicBezTo>
                <a:cubicBezTo>
                  <a:pt x="17615" y="7085"/>
                  <a:pt x="17516" y="7113"/>
                  <a:pt x="17289" y="6970"/>
                </a:cubicBezTo>
              </a:path>
              <a:path w="1191" h="596">
                <a:moveTo>
                  <a:pt x="18281" y="6474"/>
                </a:moveTo>
                <a:cubicBezTo>
                  <a:pt x="18236" y="6480"/>
                  <a:pt x="18001" y="6500"/>
                  <a:pt x="17983" y="6524"/>
                </a:cubicBezTo>
                <a:cubicBezTo>
                  <a:pt x="17923" y="6604"/>
                  <a:pt x="17947" y="6737"/>
                  <a:pt x="17959" y="6821"/>
                </a:cubicBezTo>
                <a:cubicBezTo>
                  <a:pt x="18083" y="6704"/>
                  <a:pt x="18221" y="6540"/>
                  <a:pt x="18405" y="6672"/>
                </a:cubicBezTo>
                <a:cubicBezTo>
                  <a:pt x="18728" y="6904"/>
                  <a:pt x="18153" y="7001"/>
                  <a:pt x="18058" y="70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76640" y="2946240"/>
            <a:ext cx="688680" cy="339840"/>
          </a:xfrm>
          <a:custGeom>
            <a:avLst/>
            <a:gdLst/>
            <a:ahLst/>
            <a:rect l="l" t="t" r="r" b="b"/>
            <a:pathLst>
              <a:path w="1911" h="943">
                <a:moveTo>
                  <a:pt x="6449" y="8682"/>
                </a:moveTo>
                <a:cubicBezTo>
                  <a:pt x="6403" y="8635"/>
                  <a:pt x="6391" y="8621"/>
                  <a:pt x="6350" y="8607"/>
                </a:cubicBezTo>
                <a:cubicBezTo>
                  <a:pt x="6350" y="8752"/>
                  <a:pt x="6432" y="8949"/>
                  <a:pt x="6499" y="9103"/>
                </a:cubicBezTo>
                <a:cubicBezTo>
                  <a:pt x="6499" y="9013"/>
                  <a:pt x="6456" y="8775"/>
                  <a:pt x="6573" y="8731"/>
                </a:cubicBezTo>
                <a:cubicBezTo>
                  <a:pt x="6786" y="8651"/>
                  <a:pt x="6765" y="8986"/>
                  <a:pt x="6672" y="9079"/>
                </a:cubicBezTo>
                <a:cubicBezTo>
                  <a:pt x="6575" y="9127"/>
                  <a:pt x="6545" y="9144"/>
                  <a:pt x="6474" y="9103"/>
                </a:cubicBezTo>
              </a:path>
              <a:path w="1911" h="943">
                <a:moveTo>
                  <a:pt x="6896" y="8682"/>
                </a:moveTo>
                <a:cubicBezTo>
                  <a:pt x="6783" y="8808"/>
                  <a:pt x="6810" y="8895"/>
                  <a:pt x="6896" y="9029"/>
                </a:cubicBezTo>
                <a:cubicBezTo>
                  <a:pt x="7026" y="8959"/>
                  <a:pt x="7183" y="8851"/>
                  <a:pt x="6970" y="8781"/>
                </a:cubicBezTo>
                <a:cubicBezTo>
                  <a:pt x="6929" y="8773"/>
                  <a:pt x="6887" y="8764"/>
                  <a:pt x="6846" y="8756"/>
                </a:cubicBezTo>
              </a:path>
              <a:path w="1911" h="943">
                <a:moveTo>
                  <a:pt x="6896" y="8434"/>
                </a:moveTo>
                <a:cubicBezTo>
                  <a:pt x="7000" y="8581"/>
                  <a:pt x="7099" y="8727"/>
                  <a:pt x="7193" y="8880"/>
                </a:cubicBezTo>
              </a:path>
              <a:path w="1911" h="943">
                <a:moveTo>
                  <a:pt x="6896" y="8682"/>
                </a:moveTo>
                <a:cubicBezTo>
                  <a:pt x="6996" y="8640"/>
                  <a:pt x="7089" y="8612"/>
                  <a:pt x="7193" y="8582"/>
                </a:cubicBezTo>
              </a:path>
              <a:path w="1911" h="943">
                <a:moveTo>
                  <a:pt x="7218" y="8384"/>
                </a:moveTo>
                <a:cubicBezTo>
                  <a:pt x="7218" y="8507"/>
                  <a:pt x="7305" y="8650"/>
                  <a:pt x="7367" y="8781"/>
                </a:cubicBezTo>
              </a:path>
              <a:path w="1911" h="943">
                <a:moveTo>
                  <a:pt x="7367" y="8384"/>
                </a:moveTo>
                <a:lnTo>
                  <a:pt x="7367" y="8384"/>
                </a:lnTo>
              </a:path>
              <a:path w="1911" h="943">
                <a:moveTo>
                  <a:pt x="7218" y="8657"/>
                </a:moveTo>
                <a:cubicBezTo>
                  <a:pt x="7289" y="8579"/>
                  <a:pt x="7348" y="8541"/>
                  <a:pt x="7441" y="8483"/>
                </a:cubicBezTo>
              </a:path>
              <a:path w="1911" h="943">
                <a:moveTo>
                  <a:pt x="7417" y="8334"/>
                </a:moveTo>
                <a:cubicBezTo>
                  <a:pt x="7507" y="8425"/>
                  <a:pt x="7556" y="8532"/>
                  <a:pt x="7640" y="8632"/>
                </a:cubicBezTo>
              </a:path>
              <a:path w="1911" h="943">
                <a:moveTo>
                  <a:pt x="7714" y="8458"/>
                </a:moveTo>
                <a:cubicBezTo>
                  <a:pt x="7751" y="8396"/>
                  <a:pt x="7791" y="8340"/>
                  <a:pt x="7838" y="8285"/>
                </a:cubicBezTo>
                <a:cubicBezTo>
                  <a:pt x="7714" y="8285"/>
                  <a:pt x="7600" y="8467"/>
                  <a:pt x="7714" y="8607"/>
                </a:cubicBezTo>
                <a:cubicBezTo>
                  <a:pt x="7739" y="8607"/>
                  <a:pt x="7764" y="8607"/>
                  <a:pt x="7789" y="8607"/>
                </a:cubicBezTo>
              </a:path>
              <a:path w="1911" h="943">
                <a:moveTo>
                  <a:pt x="8012" y="8186"/>
                </a:moveTo>
                <a:cubicBezTo>
                  <a:pt x="7969" y="8249"/>
                  <a:pt x="7953" y="8261"/>
                  <a:pt x="7962" y="8310"/>
                </a:cubicBezTo>
                <a:cubicBezTo>
                  <a:pt x="8080" y="8303"/>
                  <a:pt x="8141" y="8292"/>
                  <a:pt x="8235" y="8334"/>
                </a:cubicBezTo>
                <a:cubicBezTo>
                  <a:pt x="8158" y="8544"/>
                  <a:pt x="8154" y="8521"/>
                  <a:pt x="7938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3240" y="2840040"/>
            <a:ext cx="2160720" cy="955800"/>
          </a:xfrm>
          <a:custGeom>
            <a:avLst/>
            <a:gdLst/>
            <a:ahLst/>
            <a:rect l="l" t="t" r="r" b="b"/>
            <a:pathLst>
              <a:path w="6004" h="2655">
                <a:moveTo>
                  <a:pt x="11584" y="10542"/>
                </a:moveTo>
                <a:cubicBezTo>
                  <a:pt x="11652" y="10447"/>
                  <a:pt x="11737" y="10461"/>
                  <a:pt x="11857" y="10443"/>
                </a:cubicBezTo>
                <a:cubicBezTo>
                  <a:pt x="12128" y="10402"/>
                  <a:pt x="12402" y="10318"/>
                  <a:pt x="12675" y="10294"/>
                </a:cubicBezTo>
                <a:cubicBezTo>
                  <a:pt x="13014" y="10265"/>
                  <a:pt x="13287" y="10258"/>
                  <a:pt x="13618" y="10170"/>
                </a:cubicBezTo>
                <a:cubicBezTo>
                  <a:pt x="13716" y="10144"/>
                  <a:pt x="13796" y="10159"/>
                  <a:pt x="13891" y="10145"/>
                </a:cubicBezTo>
                <a:cubicBezTo>
                  <a:pt x="13977" y="10133"/>
                  <a:pt x="14052" y="10120"/>
                  <a:pt x="14139" y="10120"/>
                </a:cubicBezTo>
              </a:path>
              <a:path w="6004" h="2655">
                <a:moveTo>
                  <a:pt x="11609" y="9748"/>
                </a:moveTo>
                <a:cubicBezTo>
                  <a:pt x="11613" y="9748"/>
                  <a:pt x="11856" y="9565"/>
                  <a:pt x="11931" y="9674"/>
                </a:cubicBezTo>
                <a:cubicBezTo>
                  <a:pt x="12015" y="9795"/>
                  <a:pt x="11860" y="10031"/>
                  <a:pt x="11782" y="9971"/>
                </a:cubicBezTo>
                <a:cubicBezTo>
                  <a:pt x="11978" y="9917"/>
                  <a:pt x="12201" y="9976"/>
                  <a:pt x="12005" y="10220"/>
                </a:cubicBezTo>
                <a:cubicBezTo>
                  <a:pt x="11798" y="10478"/>
                  <a:pt x="11629" y="10327"/>
                  <a:pt x="11509" y="10120"/>
                </a:cubicBezTo>
              </a:path>
              <a:path w="6004" h="2655">
                <a:moveTo>
                  <a:pt x="12303" y="9699"/>
                </a:moveTo>
                <a:cubicBezTo>
                  <a:pt x="12200" y="9929"/>
                  <a:pt x="12182" y="9976"/>
                  <a:pt x="12229" y="10220"/>
                </a:cubicBezTo>
                <a:cubicBezTo>
                  <a:pt x="12445" y="10245"/>
                  <a:pt x="12776" y="10181"/>
                  <a:pt x="12626" y="9847"/>
                </a:cubicBezTo>
                <a:cubicBezTo>
                  <a:pt x="12537" y="9651"/>
                  <a:pt x="12402" y="9736"/>
                  <a:pt x="12254" y="9773"/>
                </a:cubicBezTo>
              </a:path>
              <a:path w="6004" h="2655">
                <a:moveTo>
                  <a:pt x="12774" y="9500"/>
                </a:moveTo>
                <a:cubicBezTo>
                  <a:pt x="12620" y="9753"/>
                  <a:pt x="12648" y="9858"/>
                  <a:pt x="12774" y="10120"/>
                </a:cubicBezTo>
                <a:cubicBezTo>
                  <a:pt x="13011" y="10071"/>
                  <a:pt x="13279" y="9893"/>
                  <a:pt x="13047" y="9599"/>
                </a:cubicBezTo>
                <a:cubicBezTo>
                  <a:pt x="12901" y="9527"/>
                  <a:pt x="12855" y="9501"/>
                  <a:pt x="12750" y="9575"/>
                </a:cubicBezTo>
              </a:path>
              <a:path w="6004" h="2655">
                <a:moveTo>
                  <a:pt x="16073" y="8855"/>
                </a:moveTo>
                <a:cubicBezTo>
                  <a:pt x="16057" y="8855"/>
                  <a:pt x="16040" y="8855"/>
                  <a:pt x="16024" y="8855"/>
                </a:cubicBezTo>
                <a:cubicBezTo>
                  <a:pt x="16089" y="8790"/>
                  <a:pt x="16416" y="8633"/>
                  <a:pt x="16321" y="8880"/>
                </a:cubicBezTo>
                <a:cubicBezTo>
                  <a:pt x="16236" y="8986"/>
                  <a:pt x="16223" y="9014"/>
                  <a:pt x="16148" y="9054"/>
                </a:cubicBezTo>
                <a:cubicBezTo>
                  <a:pt x="16234" y="9006"/>
                  <a:pt x="16544" y="8882"/>
                  <a:pt x="16421" y="9128"/>
                </a:cubicBezTo>
                <a:cubicBezTo>
                  <a:pt x="16316" y="9339"/>
                  <a:pt x="16165" y="9326"/>
                  <a:pt x="15974" y="9327"/>
                </a:cubicBezTo>
              </a:path>
              <a:path w="6004" h="2655">
                <a:moveTo>
                  <a:pt x="16545" y="8806"/>
                </a:moveTo>
                <a:cubicBezTo>
                  <a:pt x="16444" y="9077"/>
                  <a:pt x="16442" y="9081"/>
                  <a:pt x="16570" y="9327"/>
                </a:cubicBezTo>
                <a:cubicBezTo>
                  <a:pt x="16750" y="9320"/>
                  <a:pt x="17173" y="9161"/>
                  <a:pt x="16892" y="8880"/>
                </a:cubicBezTo>
                <a:cubicBezTo>
                  <a:pt x="16726" y="8832"/>
                  <a:pt x="16676" y="8813"/>
                  <a:pt x="16570" y="8880"/>
                </a:cubicBezTo>
              </a:path>
              <a:path w="6004" h="2655">
                <a:moveTo>
                  <a:pt x="17066" y="8706"/>
                </a:moveTo>
                <a:cubicBezTo>
                  <a:pt x="16979" y="8918"/>
                  <a:pt x="16959" y="9006"/>
                  <a:pt x="16991" y="9227"/>
                </a:cubicBezTo>
                <a:cubicBezTo>
                  <a:pt x="17172" y="9256"/>
                  <a:pt x="17560" y="9049"/>
                  <a:pt x="17264" y="8830"/>
                </a:cubicBezTo>
                <a:cubicBezTo>
                  <a:pt x="17198" y="8822"/>
                  <a:pt x="17132" y="8814"/>
                  <a:pt x="17066" y="8806"/>
                </a:cubicBezTo>
              </a:path>
              <a:path w="6004" h="2655">
                <a:moveTo>
                  <a:pt x="15677" y="9575"/>
                </a:moveTo>
                <a:cubicBezTo>
                  <a:pt x="15639" y="9387"/>
                  <a:pt x="15588" y="9213"/>
                  <a:pt x="15528" y="9029"/>
                </a:cubicBezTo>
                <a:cubicBezTo>
                  <a:pt x="15489" y="8912"/>
                  <a:pt x="15487" y="8893"/>
                  <a:pt x="15453" y="8830"/>
                </a:cubicBezTo>
                <a:cubicBezTo>
                  <a:pt x="15867" y="8760"/>
                  <a:pt x="16299" y="8739"/>
                  <a:pt x="16718" y="8706"/>
                </a:cubicBezTo>
                <a:cubicBezTo>
                  <a:pt x="16985" y="8685"/>
                  <a:pt x="17245" y="8682"/>
                  <a:pt x="17512" y="8682"/>
                </a:cubicBezTo>
              </a:path>
              <a:path w="6004" h="2655">
                <a:moveTo>
                  <a:pt x="14560" y="9252"/>
                </a:moveTo>
                <a:cubicBezTo>
                  <a:pt x="14504" y="9280"/>
                  <a:pt x="14490" y="9282"/>
                  <a:pt x="14536" y="9203"/>
                </a:cubicBezTo>
                <a:cubicBezTo>
                  <a:pt x="14774" y="9143"/>
                  <a:pt x="14866" y="9327"/>
                  <a:pt x="14684" y="9550"/>
                </a:cubicBezTo>
                <a:cubicBezTo>
                  <a:pt x="14535" y="9657"/>
                  <a:pt x="14507" y="9698"/>
                  <a:pt x="14387" y="9674"/>
                </a:cubicBezTo>
                <a:cubicBezTo>
                  <a:pt x="14399" y="9478"/>
                  <a:pt x="14534" y="9388"/>
                  <a:pt x="14759" y="9475"/>
                </a:cubicBezTo>
                <a:cubicBezTo>
                  <a:pt x="14792" y="9500"/>
                  <a:pt x="14825" y="9525"/>
                  <a:pt x="14858" y="9550"/>
                </a:cubicBezTo>
              </a:path>
              <a:path w="6004" h="2655">
                <a:moveTo>
                  <a:pt x="14908" y="9252"/>
                </a:moveTo>
                <a:cubicBezTo>
                  <a:pt x="14908" y="9438"/>
                  <a:pt x="14900" y="9493"/>
                  <a:pt x="15007" y="9575"/>
                </a:cubicBezTo>
                <a:cubicBezTo>
                  <a:pt x="15161" y="9521"/>
                  <a:pt x="15499" y="9316"/>
                  <a:pt x="15180" y="9153"/>
                </a:cubicBezTo>
                <a:cubicBezTo>
                  <a:pt x="15122" y="9145"/>
                  <a:pt x="15065" y="9136"/>
                  <a:pt x="15007" y="9128"/>
                </a:cubicBezTo>
              </a:path>
              <a:path w="6004" h="2655">
                <a:moveTo>
                  <a:pt x="16346" y="8161"/>
                </a:moveTo>
                <a:cubicBezTo>
                  <a:pt x="16420" y="8325"/>
                  <a:pt x="16475" y="8459"/>
                  <a:pt x="16520" y="8632"/>
                </a:cubicBezTo>
              </a:path>
              <a:path w="6004" h="2655">
                <a:moveTo>
                  <a:pt x="16966" y="7888"/>
                </a:moveTo>
                <a:cubicBezTo>
                  <a:pt x="16846" y="7948"/>
                  <a:pt x="16713" y="7966"/>
                  <a:pt x="16694" y="8111"/>
                </a:cubicBezTo>
                <a:cubicBezTo>
                  <a:pt x="16694" y="8212"/>
                  <a:pt x="16684" y="8233"/>
                  <a:pt x="16718" y="8285"/>
                </a:cubicBezTo>
                <a:cubicBezTo>
                  <a:pt x="16893" y="8111"/>
                  <a:pt x="16917" y="8042"/>
                  <a:pt x="17140" y="8161"/>
                </a:cubicBezTo>
                <a:cubicBezTo>
                  <a:pt x="17140" y="8450"/>
                  <a:pt x="17016" y="8449"/>
                  <a:pt x="16743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56000" y="3938760"/>
            <a:ext cx="44280" cy="115560"/>
          </a:xfrm>
          <a:custGeom>
            <a:avLst/>
            <a:gdLst/>
            <a:ahLst/>
            <a:rect l="l" t="t" r="r" b="b"/>
            <a:pathLst>
              <a:path w="125" h="323">
                <a:moveTo>
                  <a:pt x="9599" y="10939"/>
                </a:moveTo>
                <a:cubicBezTo>
                  <a:pt x="9645" y="11048"/>
                  <a:pt x="9688" y="11149"/>
                  <a:pt x="9723" y="11261"/>
                </a:cubicBezTo>
              </a:path>
              <a:path w="125" h="323">
                <a:moveTo>
                  <a:pt x="9674" y="10964"/>
                </a:moveTo>
                <a:cubicBezTo>
                  <a:pt x="9632" y="11088"/>
                  <a:pt x="9624" y="11113"/>
                  <a:pt x="9599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25920" y="3902040"/>
            <a:ext cx="249120" cy="241200"/>
          </a:xfrm>
          <a:custGeom>
            <a:avLst/>
            <a:gdLst/>
            <a:ahLst/>
            <a:rect l="l" t="t" r="r" b="b"/>
            <a:pathLst>
              <a:path w="695" h="670">
                <a:moveTo>
                  <a:pt x="10071" y="10939"/>
                </a:moveTo>
                <a:cubicBezTo>
                  <a:pt x="10090" y="11088"/>
                  <a:pt x="10111" y="11236"/>
                  <a:pt x="10120" y="11385"/>
                </a:cubicBezTo>
              </a:path>
              <a:path w="695" h="670">
                <a:moveTo>
                  <a:pt x="10344" y="11137"/>
                </a:moveTo>
                <a:cubicBezTo>
                  <a:pt x="10344" y="11238"/>
                  <a:pt x="10334" y="11259"/>
                  <a:pt x="10368" y="11311"/>
                </a:cubicBezTo>
                <a:cubicBezTo>
                  <a:pt x="10424" y="11306"/>
                  <a:pt x="10735" y="11233"/>
                  <a:pt x="10740" y="11361"/>
                </a:cubicBezTo>
                <a:cubicBezTo>
                  <a:pt x="10691" y="11460"/>
                  <a:pt x="10675" y="11493"/>
                  <a:pt x="10592" y="11509"/>
                </a:cubicBezTo>
              </a:path>
              <a:path w="695" h="670">
                <a:moveTo>
                  <a:pt x="10468" y="11013"/>
                </a:moveTo>
                <a:cubicBezTo>
                  <a:pt x="10600" y="10908"/>
                  <a:pt x="10650" y="10871"/>
                  <a:pt x="10765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76800" y="3857760"/>
            <a:ext cx="295200" cy="223560"/>
          </a:xfrm>
          <a:custGeom>
            <a:avLst/>
            <a:gdLst/>
            <a:ahLst/>
            <a:rect l="l" t="t" r="r" b="b"/>
            <a:pathLst>
              <a:path w="820" h="621">
                <a:moveTo>
                  <a:pt x="11881" y="10815"/>
                </a:moveTo>
                <a:cubicBezTo>
                  <a:pt x="11947" y="10995"/>
                  <a:pt x="11969" y="11145"/>
                  <a:pt x="11981" y="11336"/>
                </a:cubicBezTo>
              </a:path>
              <a:path w="820" h="621">
                <a:moveTo>
                  <a:pt x="12427" y="10716"/>
                </a:moveTo>
                <a:cubicBezTo>
                  <a:pt x="12390" y="10746"/>
                  <a:pt x="12192" y="10826"/>
                  <a:pt x="12179" y="10864"/>
                </a:cubicBezTo>
                <a:cubicBezTo>
                  <a:pt x="12179" y="10949"/>
                  <a:pt x="12172" y="10969"/>
                  <a:pt x="12204" y="11013"/>
                </a:cubicBezTo>
                <a:cubicBezTo>
                  <a:pt x="12318" y="10921"/>
                  <a:pt x="12542" y="10732"/>
                  <a:pt x="12675" y="10914"/>
                </a:cubicBezTo>
                <a:cubicBezTo>
                  <a:pt x="12869" y="11180"/>
                  <a:pt x="12478" y="11261"/>
                  <a:pt x="12328" y="1126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9840" y="1035000"/>
            <a:ext cx="1143000" cy="795240"/>
          </a:xfrm>
          <a:custGeom>
            <a:avLst/>
            <a:gdLst/>
            <a:ahLst/>
            <a:rect l="l" t="t" r="r" b="b"/>
            <a:pathLst>
              <a:path w="3176" h="2209">
                <a:moveTo>
                  <a:pt x="20910" y="4316"/>
                </a:moveTo>
                <a:cubicBezTo>
                  <a:pt x="20929" y="4506"/>
                  <a:pt x="20935" y="4694"/>
                  <a:pt x="20935" y="4887"/>
                </a:cubicBezTo>
                <a:cubicBezTo>
                  <a:pt x="20935" y="4912"/>
                  <a:pt x="20935" y="4936"/>
                  <a:pt x="20935" y="4961"/>
                </a:cubicBezTo>
              </a:path>
              <a:path w="3176" h="2209">
                <a:moveTo>
                  <a:pt x="21109" y="4242"/>
                </a:moveTo>
                <a:cubicBezTo>
                  <a:pt x="21227" y="4237"/>
                  <a:pt x="21339" y="4225"/>
                  <a:pt x="21456" y="4217"/>
                </a:cubicBezTo>
                <a:cubicBezTo>
                  <a:pt x="21441" y="4449"/>
                  <a:pt x="21414" y="4680"/>
                  <a:pt x="21382" y="4911"/>
                </a:cubicBezTo>
              </a:path>
              <a:path w="3176" h="2209">
                <a:moveTo>
                  <a:pt x="21853" y="4266"/>
                </a:moveTo>
                <a:cubicBezTo>
                  <a:pt x="21828" y="4415"/>
                  <a:pt x="22048" y="4415"/>
                  <a:pt x="22126" y="4539"/>
                </a:cubicBezTo>
                <a:cubicBezTo>
                  <a:pt x="22225" y="4696"/>
                  <a:pt x="22074" y="4766"/>
                  <a:pt x="21977" y="4837"/>
                </a:cubicBezTo>
              </a:path>
              <a:path w="3176" h="2209">
                <a:moveTo>
                  <a:pt x="21878" y="4167"/>
                </a:moveTo>
                <a:cubicBezTo>
                  <a:pt x="22011" y="4110"/>
                  <a:pt x="22142" y="4051"/>
                  <a:pt x="22275" y="3994"/>
                </a:cubicBezTo>
              </a:path>
              <a:path w="3176" h="2209">
                <a:moveTo>
                  <a:pt x="20389" y="5035"/>
                </a:moveTo>
                <a:cubicBezTo>
                  <a:pt x="20519" y="5093"/>
                  <a:pt x="20540" y="5115"/>
                  <a:pt x="20563" y="4911"/>
                </a:cubicBezTo>
                <a:cubicBezTo>
                  <a:pt x="20583" y="4731"/>
                  <a:pt x="20476" y="4180"/>
                  <a:pt x="20588" y="4043"/>
                </a:cubicBezTo>
                <a:cubicBezTo>
                  <a:pt x="20719" y="3884"/>
                  <a:pt x="21507" y="3900"/>
                  <a:pt x="21654" y="3894"/>
                </a:cubicBezTo>
                <a:cubicBezTo>
                  <a:pt x="22061" y="3878"/>
                  <a:pt x="22464" y="3877"/>
                  <a:pt x="22870" y="3845"/>
                </a:cubicBezTo>
              </a:path>
              <a:path w="3176" h="2209">
                <a:moveTo>
                  <a:pt x="20042" y="4242"/>
                </a:moveTo>
                <a:cubicBezTo>
                  <a:pt x="19999" y="4263"/>
                  <a:pt x="19731" y="4276"/>
                  <a:pt x="19720" y="4291"/>
                </a:cubicBezTo>
                <a:cubicBezTo>
                  <a:pt x="19683" y="4343"/>
                  <a:pt x="19699" y="4522"/>
                  <a:pt x="19695" y="4589"/>
                </a:cubicBezTo>
                <a:cubicBezTo>
                  <a:pt x="19821" y="4561"/>
                  <a:pt x="20004" y="4446"/>
                  <a:pt x="20141" y="4539"/>
                </a:cubicBezTo>
                <a:cubicBezTo>
                  <a:pt x="20518" y="4793"/>
                  <a:pt x="19797" y="4923"/>
                  <a:pt x="19720" y="4936"/>
                </a:cubicBezTo>
              </a:path>
              <a:path w="3176" h="2209">
                <a:moveTo>
                  <a:pt x="21456" y="3076"/>
                </a:moveTo>
                <a:cubicBezTo>
                  <a:pt x="21325" y="3237"/>
                  <a:pt x="21690" y="2992"/>
                  <a:pt x="21580" y="3225"/>
                </a:cubicBezTo>
                <a:cubicBezTo>
                  <a:pt x="21450" y="3355"/>
                  <a:pt x="21402" y="3400"/>
                  <a:pt x="21282" y="3448"/>
                </a:cubicBezTo>
                <a:cubicBezTo>
                  <a:pt x="21266" y="3456"/>
                  <a:pt x="21249" y="3465"/>
                  <a:pt x="21233" y="3473"/>
                </a:cubicBezTo>
                <a:cubicBezTo>
                  <a:pt x="21385" y="3344"/>
                  <a:pt x="21409" y="3367"/>
                  <a:pt x="21605" y="3398"/>
                </a:cubicBezTo>
                <a:cubicBezTo>
                  <a:pt x="21589" y="3668"/>
                  <a:pt x="21412" y="3684"/>
                  <a:pt x="21158" y="3746"/>
                </a:cubicBezTo>
              </a:path>
              <a:path w="3176" h="2209">
                <a:moveTo>
                  <a:pt x="21927" y="3125"/>
                </a:moveTo>
                <a:cubicBezTo>
                  <a:pt x="21962" y="3266"/>
                  <a:pt x="22108" y="3264"/>
                  <a:pt x="22200" y="3373"/>
                </a:cubicBezTo>
                <a:cubicBezTo>
                  <a:pt x="22328" y="3525"/>
                  <a:pt x="22180" y="3560"/>
                  <a:pt x="22076" y="3621"/>
                </a:cubicBezTo>
              </a:path>
              <a:path w="3176" h="2209">
                <a:moveTo>
                  <a:pt x="22225" y="2952"/>
                </a:moveTo>
                <a:cubicBezTo>
                  <a:pt x="22283" y="2927"/>
                  <a:pt x="22341" y="2902"/>
                  <a:pt x="22399" y="28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8880" y="1670040"/>
            <a:ext cx="428400" cy="393840"/>
          </a:xfrm>
          <a:custGeom>
            <a:avLst/>
            <a:gdLst/>
            <a:ahLst/>
            <a:rect l="l" t="t" r="r" b="b"/>
            <a:pathLst>
              <a:path w="1192" h="1093">
                <a:moveTo>
                  <a:pt x="15106" y="5283"/>
                </a:moveTo>
                <a:cubicBezTo>
                  <a:pt x="15215" y="5284"/>
                  <a:pt x="15292" y="5413"/>
                  <a:pt x="15379" y="5507"/>
                </a:cubicBezTo>
              </a:path>
              <a:path w="1192" h="1093">
                <a:moveTo>
                  <a:pt x="15255" y="5283"/>
                </a:moveTo>
                <a:cubicBezTo>
                  <a:pt x="15228" y="5435"/>
                  <a:pt x="15195" y="5580"/>
                  <a:pt x="15156" y="5730"/>
                </a:cubicBezTo>
              </a:path>
              <a:path w="1192" h="1093">
                <a:moveTo>
                  <a:pt x="15528" y="5110"/>
                </a:moveTo>
                <a:cubicBezTo>
                  <a:pt x="15550" y="5078"/>
                  <a:pt x="15827" y="4886"/>
                  <a:pt x="15776" y="5060"/>
                </a:cubicBezTo>
                <a:cubicBezTo>
                  <a:pt x="15708" y="5150"/>
                  <a:pt x="15693" y="5176"/>
                  <a:pt x="15627" y="5209"/>
                </a:cubicBezTo>
                <a:cubicBezTo>
                  <a:pt x="15730" y="5157"/>
                  <a:pt x="15767" y="5140"/>
                  <a:pt x="15850" y="5159"/>
                </a:cubicBezTo>
                <a:cubicBezTo>
                  <a:pt x="15822" y="5378"/>
                  <a:pt x="15743" y="5374"/>
                  <a:pt x="15553" y="5432"/>
                </a:cubicBezTo>
              </a:path>
              <a:path w="1192" h="1093">
                <a:moveTo>
                  <a:pt x="15925" y="4787"/>
                </a:moveTo>
                <a:cubicBezTo>
                  <a:pt x="15951" y="4893"/>
                  <a:pt x="15997" y="4908"/>
                  <a:pt x="16098" y="4961"/>
                </a:cubicBezTo>
                <a:cubicBezTo>
                  <a:pt x="16252" y="5041"/>
                  <a:pt x="16136" y="5124"/>
                  <a:pt x="16049" y="5184"/>
                </a:cubicBezTo>
              </a:path>
              <a:path w="1192" h="1093">
                <a:moveTo>
                  <a:pt x="15999" y="4812"/>
                </a:moveTo>
                <a:cubicBezTo>
                  <a:pt x="16145" y="4715"/>
                  <a:pt x="16191" y="4684"/>
                  <a:pt x="16297" y="46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1800" y="1312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004" y="3646"/>
                </a:moveTo>
                <a:lnTo>
                  <a:pt x="9004" y="364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776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486" y="13271"/>
                </a:moveTo>
                <a:lnTo>
                  <a:pt x="14486" y="1327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27160" y="5232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5631" y="14536"/>
                </a:moveTo>
                <a:lnTo>
                  <a:pt x="5631" y="14536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0120" y="6242040"/>
            <a:ext cx="9720" cy="36360"/>
          </a:xfrm>
          <a:custGeom>
            <a:avLst/>
            <a:gdLst/>
            <a:ahLst/>
            <a:rect l="l" t="t" r="r" b="b"/>
            <a:pathLst>
              <a:path w="26" h="101">
                <a:moveTo>
                  <a:pt x="4192" y="17438"/>
                </a:moveTo>
                <a:cubicBezTo>
                  <a:pt x="4176" y="17400"/>
                  <a:pt x="4167" y="17285"/>
                  <a:pt x="4167" y="173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5956200"/>
            <a:ext cx="349200" cy="223920"/>
          </a:xfrm>
          <a:custGeom>
            <a:avLst/>
            <a:gdLst/>
            <a:ahLst/>
            <a:rect l="l" t="t" r="r" b="b"/>
            <a:pathLst>
              <a:path w="968" h="621">
                <a:moveTo>
                  <a:pt x="12774" y="16545"/>
                </a:moveTo>
                <a:cubicBezTo>
                  <a:pt x="12934" y="16561"/>
                  <a:pt x="13175" y="16584"/>
                  <a:pt x="13122" y="16818"/>
                </a:cubicBezTo>
                <a:cubicBezTo>
                  <a:pt x="13054" y="17116"/>
                  <a:pt x="12744" y="17146"/>
                  <a:pt x="12502" y="17165"/>
                </a:cubicBezTo>
                <a:cubicBezTo>
                  <a:pt x="12560" y="16968"/>
                  <a:pt x="12737" y="16793"/>
                  <a:pt x="12973" y="16942"/>
                </a:cubicBezTo>
                <a:cubicBezTo>
                  <a:pt x="13058" y="17048"/>
                  <a:pt x="13078" y="17070"/>
                  <a:pt x="13122" y="17140"/>
                </a:cubicBezTo>
              </a:path>
              <a:path w="968" h="621">
                <a:moveTo>
                  <a:pt x="13469" y="16619"/>
                </a:moveTo>
                <a:cubicBezTo>
                  <a:pt x="13469" y="16804"/>
                  <a:pt x="13461" y="16983"/>
                  <a:pt x="13444" y="171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60960" y="6045120"/>
            <a:ext cx="536400" cy="152640"/>
          </a:xfrm>
          <a:custGeom>
            <a:avLst/>
            <a:gdLst/>
            <a:ahLst/>
            <a:rect l="l" t="t" r="r" b="b"/>
            <a:pathLst>
              <a:path w="1489" h="422">
                <a:moveTo>
                  <a:pt x="14337" y="16991"/>
                </a:moveTo>
                <a:cubicBezTo>
                  <a:pt x="14337" y="17069"/>
                  <a:pt x="14322" y="17087"/>
                  <a:pt x="14362" y="17115"/>
                </a:cubicBezTo>
                <a:cubicBezTo>
                  <a:pt x="14372" y="16980"/>
                  <a:pt x="14382" y="16844"/>
                  <a:pt x="14536" y="16793"/>
                </a:cubicBezTo>
                <a:cubicBezTo>
                  <a:pt x="14561" y="16793"/>
                  <a:pt x="14585" y="16793"/>
                  <a:pt x="14610" y="16793"/>
                </a:cubicBezTo>
              </a:path>
              <a:path w="1489" h="422">
                <a:moveTo>
                  <a:pt x="14734" y="16842"/>
                </a:moveTo>
                <a:cubicBezTo>
                  <a:pt x="14734" y="16941"/>
                  <a:pt x="14734" y="17041"/>
                  <a:pt x="14734" y="17140"/>
                </a:cubicBezTo>
                <a:cubicBezTo>
                  <a:pt x="14861" y="17115"/>
                  <a:pt x="14864" y="16801"/>
                  <a:pt x="14957" y="16892"/>
                </a:cubicBezTo>
                <a:cubicBezTo>
                  <a:pt x="14977" y="16912"/>
                  <a:pt x="15000" y="17046"/>
                  <a:pt x="15032" y="17090"/>
                </a:cubicBezTo>
              </a:path>
              <a:path w="1489" h="422">
                <a:moveTo>
                  <a:pt x="15230" y="17041"/>
                </a:moveTo>
                <a:cubicBezTo>
                  <a:pt x="15230" y="17066"/>
                  <a:pt x="15230" y="17090"/>
                  <a:pt x="15230" y="17115"/>
                </a:cubicBezTo>
                <a:cubicBezTo>
                  <a:pt x="15244" y="17045"/>
                  <a:pt x="15269" y="16855"/>
                  <a:pt x="15379" y="16942"/>
                </a:cubicBezTo>
                <a:cubicBezTo>
                  <a:pt x="15445" y="16994"/>
                  <a:pt x="15464" y="17092"/>
                  <a:pt x="15478" y="17165"/>
                </a:cubicBezTo>
              </a:path>
              <a:path w="1489" h="422">
                <a:moveTo>
                  <a:pt x="15677" y="16867"/>
                </a:moveTo>
                <a:cubicBezTo>
                  <a:pt x="15652" y="16875"/>
                  <a:pt x="15627" y="16884"/>
                  <a:pt x="15602" y="16892"/>
                </a:cubicBezTo>
                <a:cubicBezTo>
                  <a:pt x="15665" y="16990"/>
                  <a:pt x="15756" y="17035"/>
                  <a:pt x="15825" y="17140"/>
                </a:cubicBezTo>
                <a:cubicBezTo>
                  <a:pt x="15741" y="17197"/>
                  <a:pt x="15704" y="17216"/>
                  <a:pt x="15627" y="172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3120" y="5875200"/>
            <a:ext cx="1455840" cy="903600"/>
          </a:xfrm>
          <a:custGeom>
            <a:avLst/>
            <a:gdLst/>
            <a:ahLst/>
            <a:rect l="l" t="t" r="r" b="b"/>
            <a:pathLst>
              <a:path w="4044" h="2507">
                <a:moveTo>
                  <a:pt x="7714" y="16669"/>
                </a:moveTo>
                <a:cubicBezTo>
                  <a:pt x="7791" y="16626"/>
                  <a:pt x="8071" y="16462"/>
                  <a:pt x="8161" y="16570"/>
                </a:cubicBezTo>
                <a:cubicBezTo>
                  <a:pt x="8264" y="16693"/>
                  <a:pt x="7953" y="16850"/>
                  <a:pt x="7888" y="16892"/>
                </a:cubicBezTo>
                <a:cubicBezTo>
                  <a:pt x="8071" y="16850"/>
                  <a:pt x="8102" y="16842"/>
                  <a:pt x="8260" y="16942"/>
                </a:cubicBezTo>
                <a:cubicBezTo>
                  <a:pt x="8153" y="17155"/>
                  <a:pt x="8052" y="17158"/>
                  <a:pt x="7813" y="17165"/>
                </a:cubicBezTo>
                <a:cubicBezTo>
                  <a:pt x="7788" y="17165"/>
                  <a:pt x="7764" y="17165"/>
                  <a:pt x="7739" y="17165"/>
                </a:cubicBezTo>
              </a:path>
              <a:path w="4044" h="2507">
                <a:moveTo>
                  <a:pt x="7342" y="17537"/>
                </a:moveTo>
                <a:cubicBezTo>
                  <a:pt x="7714" y="17514"/>
                  <a:pt x="8085" y="17452"/>
                  <a:pt x="8458" y="17413"/>
                </a:cubicBezTo>
                <a:cubicBezTo>
                  <a:pt x="8641" y="17393"/>
                  <a:pt x="8676" y="17394"/>
                  <a:pt x="8781" y="17363"/>
                </a:cubicBezTo>
              </a:path>
              <a:path w="4044" h="2507">
                <a:moveTo>
                  <a:pt x="7962" y="17735"/>
                </a:moveTo>
                <a:cubicBezTo>
                  <a:pt x="7986" y="17856"/>
                  <a:pt x="7960" y="18111"/>
                  <a:pt x="7913" y="18306"/>
                </a:cubicBezTo>
                <a:cubicBezTo>
                  <a:pt x="7905" y="18339"/>
                  <a:pt x="7896" y="18372"/>
                  <a:pt x="7888" y="18405"/>
                </a:cubicBezTo>
              </a:path>
              <a:path w="4044" h="2507">
                <a:moveTo>
                  <a:pt x="8731" y="16942"/>
                </a:moveTo>
                <a:cubicBezTo>
                  <a:pt x="8731" y="17033"/>
                  <a:pt x="8731" y="17123"/>
                  <a:pt x="8731" y="17214"/>
                </a:cubicBezTo>
                <a:cubicBezTo>
                  <a:pt x="8712" y="17081"/>
                  <a:pt x="8716" y="16943"/>
                  <a:pt x="8830" y="16842"/>
                </a:cubicBezTo>
                <a:cubicBezTo>
                  <a:pt x="8886" y="16815"/>
                  <a:pt x="8908" y="16807"/>
                  <a:pt x="8954" y="16818"/>
                </a:cubicBezTo>
              </a:path>
              <a:path w="4044" h="2507">
                <a:moveTo>
                  <a:pt x="9103" y="16818"/>
                </a:moveTo>
                <a:cubicBezTo>
                  <a:pt x="9091" y="16895"/>
                  <a:pt x="9018" y="17135"/>
                  <a:pt x="9128" y="17165"/>
                </a:cubicBezTo>
                <a:cubicBezTo>
                  <a:pt x="9276" y="17205"/>
                  <a:pt x="9284" y="17042"/>
                  <a:pt x="9327" y="16942"/>
                </a:cubicBezTo>
                <a:cubicBezTo>
                  <a:pt x="9327" y="16758"/>
                  <a:pt x="9358" y="17102"/>
                  <a:pt x="9376" y="17165"/>
                </a:cubicBezTo>
              </a:path>
              <a:path w="4044" h="2507">
                <a:moveTo>
                  <a:pt x="9550" y="16991"/>
                </a:moveTo>
                <a:cubicBezTo>
                  <a:pt x="9542" y="17024"/>
                  <a:pt x="9533" y="17057"/>
                  <a:pt x="9525" y="17090"/>
                </a:cubicBezTo>
                <a:cubicBezTo>
                  <a:pt x="9538" y="17091"/>
                  <a:pt x="9520" y="16897"/>
                  <a:pt x="9624" y="16892"/>
                </a:cubicBezTo>
                <a:cubicBezTo>
                  <a:pt x="9792" y="16884"/>
                  <a:pt x="9747" y="17126"/>
                  <a:pt x="9723" y="17214"/>
                </a:cubicBezTo>
              </a:path>
              <a:path w="4044" h="2507">
                <a:moveTo>
                  <a:pt x="10046" y="16842"/>
                </a:moveTo>
                <a:cubicBezTo>
                  <a:pt x="9986" y="16882"/>
                  <a:pt x="9974" y="16885"/>
                  <a:pt x="9947" y="16917"/>
                </a:cubicBezTo>
                <a:cubicBezTo>
                  <a:pt x="10077" y="16999"/>
                  <a:pt x="10127" y="17010"/>
                  <a:pt x="10170" y="17140"/>
                </a:cubicBezTo>
                <a:cubicBezTo>
                  <a:pt x="10067" y="17192"/>
                  <a:pt x="10030" y="17209"/>
                  <a:pt x="9947" y="17190"/>
                </a:cubicBezTo>
              </a:path>
              <a:path w="4044" h="2507">
                <a:moveTo>
                  <a:pt x="8806" y="18033"/>
                </a:moveTo>
                <a:cubicBezTo>
                  <a:pt x="8796" y="18275"/>
                  <a:pt x="8771" y="18513"/>
                  <a:pt x="8731" y="18752"/>
                </a:cubicBezTo>
              </a:path>
              <a:path w="4044" h="2507">
                <a:moveTo>
                  <a:pt x="8806" y="17835"/>
                </a:moveTo>
                <a:lnTo>
                  <a:pt x="8806" y="17835"/>
                </a:lnTo>
              </a:path>
              <a:path w="4044" h="2507">
                <a:moveTo>
                  <a:pt x="9004" y="18033"/>
                </a:moveTo>
                <a:cubicBezTo>
                  <a:pt x="8981" y="18123"/>
                  <a:pt x="8973" y="18147"/>
                  <a:pt x="8979" y="18207"/>
                </a:cubicBezTo>
                <a:cubicBezTo>
                  <a:pt x="8993" y="18071"/>
                  <a:pt x="8978" y="18046"/>
                  <a:pt x="9079" y="17959"/>
                </a:cubicBezTo>
                <a:cubicBezTo>
                  <a:pt x="9149" y="18100"/>
                  <a:pt x="9175" y="18131"/>
                  <a:pt x="9153" y="18281"/>
                </a:cubicBezTo>
              </a:path>
              <a:path w="4044" h="2507">
                <a:moveTo>
                  <a:pt x="9327" y="18058"/>
                </a:moveTo>
                <a:cubicBezTo>
                  <a:pt x="9305" y="18165"/>
                  <a:pt x="9297" y="18189"/>
                  <a:pt x="9302" y="18256"/>
                </a:cubicBezTo>
                <a:cubicBezTo>
                  <a:pt x="9327" y="18202"/>
                  <a:pt x="9381" y="18002"/>
                  <a:pt x="9426" y="18107"/>
                </a:cubicBezTo>
                <a:cubicBezTo>
                  <a:pt x="9471" y="18221"/>
                  <a:pt x="9487" y="18251"/>
                  <a:pt x="9475" y="18331"/>
                </a:cubicBezTo>
              </a:path>
              <a:path w="4044" h="2507">
                <a:moveTo>
                  <a:pt x="9649" y="18207"/>
                </a:moveTo>
                <a:cubicBezTo>
                  <a:pt x="9649" y="18232"/>
                  <a:pt x="9649" y="18256"/>
                  <a:pt x="9649" y="18281"/>
                </a:cubicBezTo>
              </a:path>
              <a:path w="4044" h="2507">
                <a:moveTo>
                  <a:pt x="9649" y="17959"/>
                </a:moveTo>
                <a:cubicBezTo>
                  <a:pt x="9725" y="18044"/>
                  <a:pt x="9823" y="18157"/>
                  <a:pt x="9823" y="18281"/>
                </a:cubicBezTo>
                <a:cubicBezTo>
                  <a:pt x="9815" y="18306"/>
                  <a:pt x="9806" y="18330"/>
                  <a:pt x="9798" y="18355"/>
                </a:cubicBezTo>
                <a:cubicBezTo>
                  <a:pt x="9798" y="18164"/>
                  <a:pt x="9789" y="18287"/>
                  <a:pt x="9872" y="18331"/>
                </a:cubicBezTo>
                <a:cubicBezTo>
                  <a:pt x="9969" y="18383"/>
                  <a:pt x="10171" y="18233"/>
                  <a:pt x="10170" y="18132"/>
                </a:cubicBezTo>
                <a:cubicBezTo>
                  <a:pt x="10153" y="18149"/>
                  <a:pt x="10137" y="18165"/>
                  <a:pt x="10120" y="18182"/>
                </a:cubicBezTo>
                <a:cubicBezTo>
                  <a:pt x="10064" y="18338"/>
                  <a:pt x="10127" y="18293"/>
                  <a:pt x="10269" y="18281"/>
                </a:cubicBezTo>
                <a:cubicBezTo>
                  <a:pt x="10346" y="18435"/>
                  <a:pt x="10341" y="18676"/>
                  <a:pt x="10145" y="18777"/>
                </a:cubicBezTo>
                <a:cubicBezTo>
                  <a:pt x="10071" y="18794"/>
                  <a:pt x="9996" y="18810"/>
                  <a:pt x="9922" y="18827"/>
                </a:cubicBezTo>
              </a:path>
              <a:path w="4044" h="2507">
                <a:moveTo>
                  <a:pt x="10815" y="17438"/>
                </a:moveTo>
                <a:cubicBezTo>
                  <a:pt x="10940" y="17396"/>
                  <a:pt x="11058" y="17367"/>
                  <a:pt x="11187" y="17338"/>
                </a:cubicBezTo>
              </a:path>
              <a:path w="4044" h="2507">
                <a:moveTo>
                  <a:pt x="10964" y="17661"/>
                </a:moveTo>
                <a:lnTo>
                  <a:pt x="10964" y="17661"/>
                </a:lnTo>
              </a:path>
              <a:path w="4044" h="2507">
                <a:moveTo>
                  <a:pt x="11063" y="17636"/>
                </a:moveTo>
                <a:cubicBezTo>
                  <a:pt x="11170" y="17682"/>
                  <a:pt x="11270" y="17644"/>
                  <a:pt x="11385" y="17611"/>
                </a:cubicBezTo>
              </a:path>
              <a:path w="4044" h="2507">
                <a:moveTo>
                  <a:pt x="9227" y="17611"/>
                </a:moveTo>
                <a:cubicBezTo>
                  <a:pt x="9330" y="17658"/>
                  <a:pt x="9329" y="17657"/>
                  <a:pt x="9376" y="17760"/>
                </a:cubicBezTo>
              </a:path>
              <a:path w="4044" h="2507">
                <a:moveTo>
                  <a:pt x="9327" y="17636"/>
                </a:moveTo>
                <a:cubicBezTo>
                  <a:pt x="9304" y="17726"/>
                  <a:pt x="9296" y="17750"/>
                  <a:pt x="9302" y="17810"/>
                </a:cubicBezTo>
              </a:path>
              <a:path w="4044" h="2507">
                <a:moveTo>
                  <a:pt x="9550" y="17636"/>
                </a:moveTo>
                <a:cubicBezTo>
                  <a:pt x="9662" y="17653"/>
                  <a:pt x="9759" y="17661"/>
                  <a:pt x="9872" y="17661"/>
                </a:cubicBezTo>
                <a:cubicBezTo>
                  <a:pt x="9898" y="17765"/>
                  <a:pt x="9865" y="17840"/>
                  <a:pt x="9798" y="17934"/>
                </a:cubicBezTo>
              </a:path>
              <a:path w="4044" h="2507">
                <a:moveTo>
                  <a:pt x="9227" y="16321"/>
                </a:moveTo>
                <a:cubicBezTo>
                  <a:pt x="9233" y="16422"/>
                  <a:pt x="9247" y="16497"/>
                  <a:pt x="9277" y="16594"/>
                </a:cubicBezTo>
              </a:path>
              <a:path w="4044" h="2507">
                <a:moveTo>
                  <a:pt x="9252" y="16446"/>
                </a:moveTo>
                <a:cubicBezTo>
                  <a:pt x="9189" y="16551"/>
                  <a:pt x="9172" y="16571"/>
                  <a:pt x="9153" y="16644"/>
                </a:cubicBezTo>
              </a:path>
              <a:path w="4044" h="2507">
                <a:moveTo>
                  <a:pt x="9376" y="16446"/>
                </a:moveTo>
                <a:cubicBezTo>
                  <a:pt x="9518" y="16434"/>
                  <a:pt x="9661" y="16424"/>
                  <a:pt x="9798" y="16396"/>
                </a:cubicBezTo>
                <a:cubicBezTo>
                  <a:pt x="9774" y="16556"/>
                  <a:pt x="9749" y="16690"/>
                  <a:pt x="9699" y="1684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1800" y="6242040"/>
            <a:ext cx="822240" cy="349200"/>
          </a:xfrm>
          <a:custGeom>
            <a:avLst/>
            <a:gdLst/>
            <a:ahLst/>
            <a:rect l="l" t="t" r="r" b="b"/>
            <a:pathLst>
              <a:path w="2283" h="969">
                <a:moveTo>
                  <a:pt x="12254" y="17363"/>
                </a:moveTo>
                <a:cubicBezTo>
                  <a:pt x="12718" y="17325"/>
                  <a:pt x="13177" y="17339"/>
                  <a:pt x="13643" y="17363"/>
                </a:cubicBezTo>
                <a:cubicBezTo>
                  <a:pt x="13950" y="17379"/>
                  <a:pt x="14232" y="17395"/>
                  <a:pt x="14536" y="17363"/>
                </a:cubicBezTo>
              </a:path>
              <a:path w="2283" h="969">
                <a:moveTo>
                  <a:pt x="12973" y="17711"/>
                </a:moveTo>
                <a:lnTo>
                  <a:pt x="12973" y="17711"/>
                </a:lnTo>
              </a:path>
              <a:path w="2283" h="969">
                <a:moveTo>
                  <a:pt x="13022" y="17735"/>
                </a:moveTo>
                <a:cubicBezTo>
                  <a:pt x="13126" y="17632"/>
                  <a:pt x="13315" y="17645"/>
                  <a:pt x="13469" y="17636"/>
                </a:cubicBezTo>
                <a:cubicBezTo>
                  <a:pt x="13510" y="17636"/>
                  <a:pt x="13552" y="17636"/>
                  <a:pt x="13593" y="17636"/>
                </a:cubicBezTo>
                <a:cubicBezTo>
                  <a:pt x="13499" y="17805"/>
                  <a:pt x="13394" y="17967"/>
                  <a:pt x="13295" y="18132"/>
                </a:cubicBezTo>
                <a:cubicBezTo>
                  <a:pt x="13266" y="18181"/>
                  <a:pt x="13257" y="18252"/>
                  <a:pt x="13246" y="1830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32000" y="2241720"/>
            <a:ext cx="108000" cy="172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6201" y="6226"/>
                </a:moveTo>
                <a:cubicBezTo>
                  <a:pt x="6304" y="6234"/>
                  <a:pt x="6398" y="6265"/>
                  <a:pt x="6499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32000" y="2374920"/>
            <a:ext cx="108000" cy="19080"/>
          </a:xfrm>
          <a:custGeom>
            <a:avLst/>
            <a:gdLst/>
            <a:ahLst/>
            <a:rect l="l" t="t" r="r" b="b"/>
            <a:pathLst>
              <a:path w="299" h="51">
                <a:moveTo>
                  <a:pt x="6201" y="6648"/>
                </a:moveTo>
                <a:cubicBezTo>
                  <a:pt x="6304" y="6632"/>
                  <a:pt x="6399" y="6621"/>
                  <a:pt x="6499" y="65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1320" y="2419200"/>
            <a:ext cx="9720" cy="206640"/>
          </a:xfrm>
          <a:custGeom>
            <a:avLst/>
            <a:gdLst/>
            <a:ahLst/>
            <a:rect l="l" t="t" r="r" b="b"/>
            <a:pathLst>
              <a:path w="26" h="572">
                <a:moveTo>
                  <a:pt x="8111" y="6747"/>
                </a:moveTo>
                <a:cubicBezTo>
                  <a:pt x="8018" y="6685"/>
                  <a:pt x="8112" y="7084"/>
                  <a:pt x="8111" y="7119"/>
                </a:cubicBezTo>
                <a:cubicBezTo>
                  <a:pt x="8091" y="7218"/>
                  <a:pt x="8083" y="7234"/>
                  <a:pt x="8086" y="7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36920" y="2320920"/>
            <a:ext cx="776160" cy="19080"/>
          </a:xfrm>
          <a:custGeom>
            <a:avLst/>
            <a:gdLst/>
            <a:ahLst/>
            <a:rect l="l" t="t" r="r" b="b"/>
            <a:pathLst>
              <a:path w="2159" h="51">
                <a:moveTo>
                  <a:pt x="7045" y="6449"/>
                </a:moveTo>
                <a:cubicBezTo>
                  <a:pt x="7352" y="6449"/>
                  <a:pt x="7655" y="6485"/>
                  <a:pt x="7962" y="6474"/>
                </a:cubicBezTo>
                <a:cubicBezTo>
                  <a:pt x="8258" y="6464"/>
                  <a:pt x="8539" y="6447"/>
                  <a:pt x="8830" y="6474"/>
                </a:cubicBezTo>
                <a:cubicBezTo>
                  <a:pt x="8889" y="6480"/>
                  <a:pt x="8974" y="6515"/>
                  <a:pt x="9029" y="6499"/>
                </a:cubicBezTo>
                <a:cubicBezTo>
                  <a:pt x="9086" y="6483"/>
                  <a:pt x="9133" y="6474"/>
                  <a:pt x="9203" y="64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2768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483" y="7689"/>
                </a:moveTo>
                <a:lnTo>
                  <a:pt x="8483" y="768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25900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9525" y="6350"/>
                </a:moveTo>
                <a:cubicBezTo>
                  <a:pt x="9575" y="6283"/>
                  <a:pt x="9681" y="6283"/>
                  <a:pt x="9773" y="627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02000" y="2367000"/>
            <a:ext cx="90360" cy="79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9451" y="6598"/>
                </a:moveTo>
                <a:cubicBezTo>
                  <a:pt x="9541" y="6598"/>
                  <a:pt x="9615" y="6584"/>
                  <a:pt x="9699" y="65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71840" y="2581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144" y="7169"/>
                </a:moveTo>
                <a:lnTo>
                  <a:pt x="7144" y="716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010040"/>
            <a:ext cx="134640" cy="1602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6300" y="11162"/>
                </a:moveTo>
                <a:cubicBezTo>
                  <a:pt x="6196" y="11150"/>
                  <a:pt x="6117" y="11102"/>
                  <a:pt x="6028" y="11187"/>
                </a:cubicBezTo>
                <a:cubicBezTo>
                  <a:pt x="5931" y="11279"/>
                  <a:pt x="5879" y="11488"/>
                  <a:pt x="6003" y="11584"/>
                </a:cubicBezTo>
                <a:cubicBezTo>
                  <a:pt x="6136" y="11687"/>
                  <a:pt x="6220" y="11488"/>
                  <a:pt x="6251" y="1141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60720" y="3911760"/>
            <a:ext cx="107640" cy="223560"/>
          </a:xfrm>
          <a:custGeom>
            <a:avLst/>
            <a:gdLst/>
            <a:ahLst/>
            <a:rect l="l" t="t" r="r" b="b"/>
            <a:pathLst>
              <a:path w="298" h="622">
                <a:moveTo>
                  <a:pt x="6028" y="10914"/>
                </a:moveTo>
                <a:cubicBezTo>
                  <a:pt x="5912" y="10798"/>
                  <a:pt x="6181" y="11222"/>
                  <a:pt x="6201" y="11261"/>
                </a:cubicBezTo>
                <a:cubicBezTo>
                  <a:pt x="6237" y="11333"/>
                  <a:pt x="6265" y="11412"/>
                  <a:pt x="6300" y="114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95360" y="3963960"/>
            <a:ext cx="125640" cy="152280"/>
          </a:xfrm>
          <a:custGeom>
            <a:avLst/>
            <a:gdLst/>
            <a:ahLst/>
            <a:rect l="l" t="t" r="r" b="b"/>
            <a:pathLst>
              <a:path w="348" h="423">
                <a:moveTo>
                  <a:pt x="6573" y="11137"/>
                </a:moveTo>
                <a:cubicBezTo>
                  <a:pt x="6564" y="11065"/>
                  <a:pt x="6546" y="10991"/>
                  <a:pt x="6449" y="11013"/>
                </a:cubicBezTo>
                <a:cubicBezTo>
                  <a:pt x="6344" y="11037"/>
                  <a:pt x="6378" y="11262"/>
                  <a:pt x="6400" y="11336"/>
                </a:cubicBezTo>
                <a:cubicBezTo>
                  <a:pt x="6444" y="11424"/>
                  <a:pt x="6448" y="11457"/>
                  <a:pt x="6524" y="11435"/>
                </a:cubicBezTo>
                <a:cubicBezTo>
                  <a:pt x="6577" y="11316"/>
                  <a:pt x="6624" y="11237"/>
                  <a:pt x="6573" y="11112"/>
                </a:cubicBezTo>
                <a:cubicBezTo>
                  <a:pt x="6522" y="10986"/>
                  <a:pt x="6633" y="11225"/>
                  <a:pt x="6672" y="11261"/>
                </a:cubicBezTo>
                <a:cubicBezTo>
                  <a:pt x="6689" y="11269"/>
                  <a:pt x="6705" y="11278"/>
                  <a:pt x="6722" y="112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94000" y="3983040"/>
            <a:ext cx="88920" cy="54000"/>
          </a:xfrm>
          <a:custGeom>
            <a:avLst/>
            <a:gdLst/>
            <a:ahLst/>
            <a:rect l="l" t="t" r="r" b="b"/>
            <a:pathLst>
              <a:path w="249" h="150">
                <a:moveTo>
                  <a:pt x="6648" y="11063"/>
                </a:moveTo>
                <a:cubicBezTo>
                  <a:pt x="6733" y="11111"/>
                  <a:pt x="6813" y="11162"/>
                  <a:pt x="6896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55920" y="3902040"/>
            <a:ext cx="88920" cy="268200"/>
          </a:xfrm>
          <a:custGeom>
            <a:avLst/>
            <a:gdLst/>
            <a:ahLst/>
            <a:rect l="l" t="t" r="r" b="b"/>
            <a:pathLst>
              <a:path w="249" h="745">
                <a:moveTo>
                  <a:pt x="6821" y="10840"/>
                </a:moveTo>
                <a:cubicBezTo>
                  <a:pt x="6876" y="11066"/>
                  <a:pt x="6968" y="11267"/>
                  <a:pt x="7045" y="11485"/>
                </a:cubicBezTo>
                <a:cubicBezTo>
                  <a:pt x="7063" y="11559"/>
                  <a:pt x="7071" y="11618"/>
                  <a:pt x="7069" y="1155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7840" y="3894120"/>
            <a:ext cx="90360" cy="133200"/>
          </a:xfrm>
          <a:custGeom>
            <a:avLst/>
            <a:gdLst/>
            <a:ahLst/>
            <a:rect l="l" t="t" r="r" b="b"/>
            <a:pathLst>
              <a:path w="249" h="373">
                <a:moveTo>
                  <a:pt x="7119" y="10815"/>
                </a:moveTo>
                <a:cubicBezTo>
                  <a:pt x="7052" y="10848"/>
                  <a:pt x="7037" y="10856"/>
                  <a:pt x="6995" y="10914"/>
                </a:cubicBezTo>
                <a:cubicBezTo>
                  <a:pt x="7080" y="10932"/>
                  <a:pt x="7161" y="10942"/>
                  <a:pt x="7243" y="10964"/>
                </a:cubicBezTo>
                <a:cubicBezTo>
                  <a:pt x="7230" y="11159"/>
                  <a:pt x="7223" y="11107"/>
                  <a:pt x="7069" y="11162"/>
                </a:cubicBezTo>
                <a:cubicBezTo>
                  <a:pt x="7061" y="11170"/>
                  <a:pt x="7053" y="11179"/>
                  <a:pt x="7045" y="111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97120" y="3616200"/>
            <a:ext cx="115920" cy="19080"/>
          </a:xfrm>
          <a:custGeom>
            <a:avLst/>
            <a:gdLst/>
            <a:ahLst/>
            <a:rect l="l" t="t" r="r" b="b"/>
            <a:pathLst>
              <a:path w="323" h="51">
                <a:moveTo>
                  <a:pt x="7491" y="10096"/>
                </a:moveTo>
                <a:cubicBezTo>
                  <a:pt x="7598" y="10096"/>
                  <a:pt x="7685" y="10066"/>
                  <a:pt x="7789" y="10046"/>
                </a:cubicBezTo>
                <a:cubicBezTo>
                  <a:pt x="7797" y="10046"/>
                  <a:pt x="7805" y="10046"/>
                  <a:pt x="7813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32040" y="3724200"/>
            <a:ext cx="117360" cy="17640"/>
          </a:xfrm>
          <a:custGeom>
            <a:avLst/>
            <a:gdLst/>
            <a:ahLst/>
            <a:rect l="l" t="t" r="r" b="b"/>
            <a:pathLst>
              <a:path w="324" h="50">
                <a:moveTo>
                  <a:pt x="7590" y="10393"/>
                </a:moveTo>
                <a:cubicBezTo>
                  <a:pt x="7708" y="10364"/>
                  <a:pt x="7789" y="10344"/>
                  <a:pt x="7913" y="103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98880" y="3705120"/>
            <a:ext cx="465120" cy="9720"/>
          </a:xfrm>
          <a:custGeom>
            <a:avLst/>
            <a:gdLst/>
            <a:ahLst/>
            <a:rect l="l" t="t" r="r" b="b"/>
            <a:pathLst>
              <a:path w="1291" h="26">
                <a:moveTo>
                  <a:pt x="8607" y="10294"/>
                </a:moveTo>
                <a:cubicBezTo>
                  <a:pt x="8958" y="10328"/>
                  <a:pt x="9297" y="10307"/>
                  <a:pt x="9649" y="10294"/>
                </a:cubicBezTo>
                <a:cubicBezTo>
                  <a:pt x="9790" y="10294"/>
                  <a:pt x="9814" y="10294"/>
                  <a:pt x="9897" y="1029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59080" y="3857760"/>
            <a:ext cx="9720" cy="179280"/>
          </a:xfrm>
          <a:custGeom>
            <a:avLst/>
            <a:gdLst/>
            <a:ahLst/>
            <a:rect l="l" t="t" r="r" b="b"/>
            <a:pathLst>
              <a:path w="26" h="497">
                <a:moveTo>
                  <a:pt x="9054" y="10740"/>
                </a:moveTo>
                <a:cubicBezTo>
                  <a:pt x="9054" y="10599"/>
                  <a:pt x="9076" y="10971"/>
                  <a:pt x="9079" y="11112"/>
                </a:cubicBezTo>
                <a:cubicBezTo>
                  <a:pt x="9079" y="11145"/>
                  <a:pt x="9079" y="11179"/>
                  <a:pt x="9079" y="112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87720" y="3741840"/>
            <a:ext cx="117360" cy="17280"/>
          </a:xfrm>
          <a:custGeom>
            <a:avLst/>
            <a:gdLst/>
            <a:ahLst/>
            <a:rect l="l" t="t" r="r" b="b"/>
            <a:pathLst>
              <a:path w="324" h="51">
                <a:moveTo>
                  <a:pt x="6102" y="10443"/>
                </a:moveTo>
                <a:cubicBezTo>
                  <a:pt x="6137" y="10371"/>
                  <a:pt x="6257" y="10393"/>
                  <a:pt x="6400" y="103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71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300" y="10319"/>
                </a:moveTo>
                <a:lnTo>
                  <a:pt x="6300" y="1031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2000" y="383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201" y="10641"/>
                </a:moveTo>
                <a:lnTo>
                  <a:pt x="6201" y="1064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4280" y="3768840"/>
            <a:ext cx="98640" cy="133200"/>
          </a:xfrm>
          <a:custGeom>
            <a:avLst/>
            <a:gdLst/>
            <a:ahLst/>
            <a:rect l="l" t="t" r="r" b="b"/>
            <a:pathLst>
              <a:path w="274" h="373">
                <a:moveTo>
                  <a:pt x="6623" y="10517"/>
                </a:moveTo>
                <a:cubicBezTo>
                  <a:pt x="6729" y="10495"/>
                  <a:pt x="6798" y="10473"/>
                  <a:pt x="6896" y="10492"/>
                </a:cubicBezTo>
                <a:cubicBezTo>
                  <a:pt x="6882" y="10633"/>
                  <a:pt x="6857" y="10710"/>
                  <a:pt x="6796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3483000"/>
            <a:ext cx="98280" cy="9360"/>
          </a:xfrm>
          <a:custGeom>
            <a:avLst/>
            <a:gdLst/>
            <a:ahLst/>
            <a:rect l="l" t="t" r="r" b="b"/>
            <a:pathLst>
              <a:path w="274" h="26">
                <a:moveTo>
                  <a:pt x="6499" y="9699"/>
                </a:moveTo>
                <a:cubicBezTo>
                  <a:pt x="6596" y="9684"/>
                  <a:pt x="6674" y="9674"/>
                  <a:pt x="6772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84280" y="34113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6623" y="9475"/>
                </a:moveTo>
                <a:lnTo>
                  <a:pt x="6623" y="947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94000" y="3537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648" y="9823"/>
                </a:moveTo>
                <a:lnTo>
                  <a:pt x="6648" y="982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2920" y="3411360"/>
            <a:ext cx="115920" cy="125640"/>
          </a:xfrm>
          <a:custGeom>
            <a:avLst/>
            <a:gdLst/>
            <a:ahLst/>
            <a:rect l="l" t="t" r="r" b="b"/>
            <a:pathLst>
              <a:path w="323" h="349">
                <a:moveTo>
                  <a:pt x="6896" y="9500"/>
                </a:moveTo>
                <a:cubicBezTo>
                  <a:pt x="6961" y="9500"/>
                  <a:pt x="7152" y="9437"/>
                  <a:pt x="7193" y="9475"/>
                </a:cubicBezTo>
                <a:cubicBezTo>
                  <a:pt x="7295" y="9568"/>
                  <a:pt x="7148" y="9756"/>
                  <a:pt x="7094" y="98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4240" y="3419640"/>
            <a:ext cx="223920" cy="233280"/>
          </a:xfrm>
          <a:custGeom>
            <a:avLst/>
            <a:gdLst/>
            <a:ahLst/>
            <a:rect l="l" t="t" r="r" b="b"/>
            <a:pathLst>
              <a:path w="621" h="646">
                <a:moveTo>
                  <a:pt x="8657" y="9550"/>
                </a:moveTo>
                <a:cubicBezTo>
                  <a:pt x="8624" y="9631"/>
                  <a:pt x="8773" y="9517"/>
                  <a:pt x="8880" y="9500"/>
                </a:cubicBezTo>
                <a:cubicBezTo>
                  <a:pt x="9004" y="9769"/>
                  <a:pt x="8995" y="10061"/>
                  <a:pt x="8607" y="10145"/>
                </a:cubicBezTo>
                <a:cubicBezTo>
                  <a:pt x="8566" y="10129"/>
                  <a:pt x="8524" y="10112"/>
                  <a:pt x="8483" y="10096"/>
                </a:cubicBezTo>
                <a:cubicBezTo>
                  <a:pt x="8555" y="9898"/>
                  <a:pt x="8721" y="9566"/>
                  <a:pt x="8979" y="9823"/>
                </a:cubicBezTo>
                <a:cubicBezTo>
                  <a:pt x="9114" y="9957"/>
                  <a:pt x="8991" y="10027"/>
                  <a:pt x="9103" y="1004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21000" y="3429000"/>
            <a:ext cx="152280" cy="231840"/>
          </a:xfrm>
          <a:custGeom>
            <a:avLst/>
            <a:gdLst/>
            <a:ahLst/>
            <a:rect l="l" t="t" r="r" b="b"/>
            <a:pathLst>
              <a:path w="423" h="646">
                <a:moveTo>
                  <a:pt x="9302" y="9525"/>
                </a:moveTo>
                <a:cubicBezTo>
                  <a:pt x="9218" y="9774"/>
                  <a:pt x="9208" y="9932"/>
                  <a:pt x="9302" y="10170"/>
                </a:cubicBezTo>
                <a:cubicBezTo>
                  <a:pt x="9468" y="10134"/>
                  <a:pt x="9806" y="9959"/>
                  <a:pt x="9624" y="9699"/>
                </a:cubicBezTo>
                <a:cubicBezTo>
                  <a:pt x="9488" y="9630"/>
                  <a:pt x="9452" y="9605"/>
                  <a:pt x="9351" y="96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59120" y="3724200"/>
            <a:ext cx="162000" cy="34920"/>
          </a:xfrm>
          <a:custGeom>
            <a:avLst/>
            <a:gdLst/>
            <a:ahLst/>
            <a:rect l="l" t="t" r="r" b="b"/>
            <a:pathLst>
              <a:path w="447" h="100">
                <a:moveTo>
                  <a:pt x="10443" y="10344"/>
                </a:moveTo>
                <a:cubicBezTo>
                  <a:pt x="10610" y="10432"/>
                  <a:pt x="10700" y="10443"/>
                  <a:pt x="10889" y="1044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51200" y="3840120"/>
            <a:ext cx="177840" cy="9720"/>
          </a:xfrm>
          <a:custGeom>
            <a:avLst/>
            <a:gdLst/>
            <a:ahLst/>
            <a:rect l="l" t="t" r="r" b="b"/>
            <a:pathLst>
              <a:path w="497" h="26">
                <a:moveTo>
                  <a:pt x="10418" y="10666"/>
                </a:moveTo>
                <a:cubicBezTo>
                  <a:pt x="10586" y="10686"/>
                  <a:pt x="10744" y="10691"/>
                  <a:pt x="10914" y="106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3000" y="3348000"/>
            <a:ext cx="88920" cy="100080"/>
          </a:xfrm>
          <a:custGeom>
            <a:avLst/>
            <a:gdLst/>
            <a:ahLst/>
            <a:rect l="l" t="t" r="r" b="b"/>
            <a:pathLst>
              <a:path w="249" h="274">
                <a:moveTo>
                  <a:pt x="9674" y="9302"/>
                </a:moveTo>
                <a:cubicBezTo>
                  <a:pt x="9758" y="9392"/>
                  <a:pt x="9838" y="9485"/>
                  <a:pt x="9922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83000" y="3321000"/>
            <a:ext cx="44280" cy="162000"/>
          </a:xfrm>
          <a:custGeom>
            <a:avLst/>
            <a:gdLst/>
            <a:ahLst/>
            <a:rect l="l" t="t" r="r" b="b"/>
            <a:pathLst>
              <a:path w="125" h="448">
                <a:moveTo>
                  <a:pt x="9798" y="9227"/>
                </a:moveTo>
                <a:cubicBezTo>
                  <a:pt x="9739" y="9381"/>
                  <a:pt x="9704" y="9512"/>
                  <a:pt x="9674" y="967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33840" y="3259080"/>
            <a:ext cx="19080" cy="142920"/>
          </a:xfrm>
          <a:custGeom>
            <a:avLst/>
            <a:gdLst/>
            <a:ahLst/>
            <a:rect l="l" t="t" r="r" b="b"/>
            <a:pathLst>
              <a:path w="50" h="398">
                <a:moveTo>
                  <a:pt x="10096" y="9054"/>
                </a:moveTo>
                <a:cubicBezTo>
                  <a:pt x="10103" y="9190"/>
                  <a:pt x="10121" y="9317"/>
                  <a:pt x="10145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5120" y="3303720"/>
            <a:ext cx="144720" cy="98280"/>
          </a:xfrm>
          <a:custGeom>
            <a:avLst/>
            <a:gdLst/>
            <a:ahLst/>
            <a:rect l="l" t="t" r="r" b="b"/>
            <a:pathLst>
              <a:path w="398" h="274">
                <a:moveTo>
                  <a:pt x="10294" y="9178"/>
                </a:moveTo>
                <a:cubicBezTo>
                  <a:pt x="10413" y="9237"/>
                  <a:pt x="10602" y="9204"/>
                  <a:pt x="10691" y="9327"/>
                </a:cubicBezTo>
                <a:cubicBezTo>
                  <a:pt x="10691" y="9400"/>
                  <a:pt x="10692" y="9424"/>
                  <a:pt x="10641" y="94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2120" y="3197160"/>
            <a:ext cx="98640" cy="54000"/>
          </a:xfrm>
          <a:custGeom>
            <a:avLst/>
            <a:gdLst/>
            <a:ahLst/>
            <a:rect l="l" t="t" r="r" b="b"/>
            <a:pathLst>
              <a:path w="274" h="150">
                <a:moveTo>
                  <a:pt x="10368" y="9029"/>
                </a:moveTo>
                <a:cubicBezTo>
                  <a:pt x="10504" y="8938"/>
                  <a:pt x="10540" y="8911"/>
                  <a:pt x="10641" y="88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Students will determine and use unit rate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Unit Rates to comp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nd a friend are timing each other to find out who is the faster runner.  You run 3 miles in 23 minutes.  Your friend runs 4 miles in 26 minutes.  Who is the faster ru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ould finding unit rates help you compare the two pr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eps to compare using unit ra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 the unit rate for each ru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one who ran fast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73120" y="3786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093" y="10517"/>
                </a:moveTo>
                <a:lnTo>
                  <a:pt x="4093" y="10517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7840" y="3098880"/>
            <a:ext cx="2233440" cy="615960"/>
          </a:xfrm>
          <a:custGeom>
            <a:avLst/>
            <a:gdLst/>
            <a:ahLst/>
            <a:rect l="l" t="t" r="r" b="b"/>
            <a:pathLst>
              <a:path w="6202" h="1713">
                <a:moveTo>
                  <a:pt x="7094" y="9500"/>
                </a:moveTo>
                <a:cubicBezTo>
                  <a:pt x="7458" y="9541"/>
                  <a:pt x="7860" y="9465"/>
                  <a:pt x="8235" y="9475"/>
                </a:cubicBezTo>
                <a:cubicBezTo>
                  <a:pt x="8461" y="9481"/>
                  <a:pt x="8681" y="9510"/>
                  <a:pt x="8905" y="9525"/>
                </a:cubicBezTo>
              </a:path>
              <a:path w="6202" h="1713">
                <a:moveTo>
                  <a:pt x="7441" y="9748"/>
                </a:moveTo>
                <a:cubicBezTo>
                  <a:pt x="7638" y="9696"/>
                  <a:pt x="7715" y="9687"/>
                  <a:pt x="7863" y="9823"/>
                </a:cubicBezTo>
                <a:cubicBezTo>
                  <a:pt x="7761" y="9932"/>
                  <a:pt x="7674" y="9997"/>
                  <a:pt x="7541" y="10071"/>
                </a:cubicBezTo>
                <a:cubicBezTo>
                  <a:pt x="7604" y="9998"/>
                  <a:pt x="7848" y="9936"/>
                  <a:pt x="7789" y="10145"/>
                </a:cubicBezTo>
                <a:cubicBezTo>
                  <a:pt x="7736" y="10332"/>
                  <a:pt x="7408" y="10402"/>
                  <a:pt x="7268" y="10269"/>
                </a:cubicBezTo>
                <a:cubicBezTo>
                  <a:pt x="7268" y="10244"/>
                  <a:pt x="7268" y="10220"/>
                  <a:pt x="7268" y="10195"/>
                </a:cubicBezTo>
              </a:path>
              <a:path w="6202" h="1713">
                <a:moveTo>
                  <a:pt x="8384" y="10071"/>
                </a:moveTo>
                <a:cubicBezTo>
                  <a:pt x="8384" y="10170"/>
                  <a:pt x="8384" y="10203"/>
                  <a:pt x="8384" y="10269"/>
                </a:cubicBezTo>
                <a:cubicBezTo>
                  <a:pt x="8384" y="10318"/>
                  <a:pt x="8421" y="10050"/>
                  <a:pt x="8434" y="10021"/>
                </a:cubicBezTo>
                <a:cubicBezTo>
                  <a:pt x="8471" y="9965"/>
                  <a:pt x="8466" y="9940"/>
                  <a:pt x="8508" y="9947"/>
                </a:cubicBezTo>
                <a:cubicBezTo>
                  <a:pt x="8588" y="10049"/>
                  <a:pt x="8619" y="10117"/>
                  <a:pt x="8657" y="10244"/>
                </a:cubicBezTo>
                <a:cubicBezTo>
                  <a:pt x="8754" y="10038"/>
                  <a:pt x="8806" y="9952"/>
                  <a:pt x="8905" y="10220"/>
                </a:cubicBezTo>
                <a:cubicBezTo>
                  <a:pt x="8913" y="10253"/>
                  <a:pt x="8922" y="10286"/>
                  <a:pt x="8930" y="10319"/>
                </a:cubicBezTo>
              </a:path>
              <a:path w="6202" h="1713">
                <a:moveTo>
                  <a:pt x="8954" y="9971"/>
                </a:moveTo>
                <a:lnTo>
                  <a:pt x="8954" y="9971"/>
                </a:lnTo>
              </a:path>
              <a:path w="6202" h="1713">
                <a:moveTo>
                  <a:pt x="8954" y="9748"/>
                </a:moveTo>
                <a:cubicBezTo>
                  <a:pt x="9038" y="9915"/>
                  <a:pt x="9033" y="10089"/>
                  <a:pt x="9079" y="10269"/>
                </a:cubicBezTo>
                <a:cubicBezTo>
                  <a:pt x="9087" y="10286"/>
                  <a:pt x="9095" y="10302"/>
                  <a:pt x="9103" y="10319"/>
                </a:cubicBezTo>
              </a:path>
              <a:path w="6202" h="1713">
                <a:moveTo>
                  <a:pt x="9203" y="9897"/>
                </a:moveTo>
                <a:cubicBezTo>
                  <a:pt x="9216" y="9993"/>
                  <a:pt x="9310" y="10006"/>
                  <a:pt x="9401" y="9947"/>
                </a:cubicBezTo>
                <a:cubicBezTo>
                  <a:pt x="9409" y="9930"/>
                  <a:pt x="9418" y="9914"/>
                  <a:pt x="9426" y="9897"/>
                </a:cubicBezTo>
                <a:cubicBezTo>
                  <a:pt x="9360" y="9910"/>
                  <a:pt x="9111" y="10011"/>
                  <a:pt x="9277" y="10096"/>
                </a:cubicBezTo>
                <a:cubicBezTo>
                  <a:pt x="9318" y="10104"/>
                  <a:pt x="9360" y="10112"/>
                  <a:pt x="9401" y="10120"/>
                </a:cubicBezTo>
              </a:path>
              <a:path w="6202" h="1713">
                <a:moveTo>
                  <a:pt x="9674" y="9971"/>
                </a:moveTo>
                <a:cubicBezTo>
                  <a:pt x="9613" y="9991"/>
                  <a:pt x="9598" y="9989"/>
                  <a:pt x="9575" y="10021"/>
                </a:cubicBezTo>
                <a:cubicBezTo>
                  <a:pt x="9699" y="10104"/>
                  <a:pt x="9784" y="10108"/>
                  <a:pt x="9674" y="10220"/>
                </a:cubicBezTo>
              </a:path>
              <a:path w="6202" h="1713">
                <a:moveTo>
                  <a:pt x="7417" y="8607"/>
                </a:moveTo>
                <a:cubicBezTo>
                  <a:pt x="7335" y="8710"/>
                  <a:pt x="7521" y="8572"/>
                  <a:pt x="7590" y="8756"/>
                </a:cubicBezTo>
                <a:cubicBezTo>
                  <a:pt x="7704" y="9061"/>
                  <a:pt x="7313" y="9289"/>
                  <a:pt x="7045" y="9203"/>
                </a:cubicBezTo>
                <a:cubicBezTo>
                  <a:pt x="7028" y="9170"/>
                  <a:pt x="7012" y="9136"/>
                  <a:pt x="6995" y="9103"/>
                </a:cubicBezTo>
                <a:cubicBezTo>
                  <a:pt x="7164" y="8990"/>
                  <a:pt x="7454" y="8828"/>
                  <a:pt x="7590" y="9103"/>
                </a:cubicBezTo>
                <a:cubicBezTo>
                  <a:pt x="7590" y="9136"/>
                  <a:pt x="7590" y="9170"/>
                  <a:pt x="7590" y="9203"/>
                </a:cubicBezTo>
              </a:path>
              <a:path w="6202" h="1713">
                <a:moveTo>
                  <a:pt x="7863" y="8706"/>
                </a:moveTo>
                <a:cubicBezTo>
                  <a:pt x="7982" y="8673"/>
                  <a:pt x="8264" y="8597"/>
                  <a:pt x="8161" y="8855"/>
                </a:cubicBezTo>
                <a:cubicBezTo>
                  <a:pt x="8066" y="8950"/>
                  <a:pt x="8037" y="8980"/>
                  <a:pt x="7962" y="9029"/>
                </a:cubicBezTo>
                <a:cubicBezTo>
                  <a:pt x="7962" y="8996"/>
                  <a:pt x="7962" y="8963"/>
                  <a:pt x="7962" y="8930"/>
                </a:cubicBezTo>
                <a:cubicBezTo>
                  <a:pt x="8121" y="8920"/>
                  <a:pt x="8391" y="9033"/>
                  <a:pt x="8161" y="9227"/>
                </a:cubicBezTo>
                <a:cubicBezTo>
                  <a:pt x="8030" y="9337"/>
                  <a:pt x="7869" y="9246"/>
                  <a:pt x="7739" y="9203"/>
                </a:cubicBezTo>
              </a:path>
              <a:path w="6202" h="1713">
                <a:moveTo>
                  <a:pt x="8632" y="9103"/>
                </a:moveTo>
                <a:cubicBezTo>
                  <a:pt x="8632" y="9170"/>
                  <a:pt x="8636" y="9204"/>
                  <a:pt x="8657" y="9252"/>
                </a:cubicBezTo>
                <a:cubicBezTo>
                  <a:pt x="8657" y="9374"/>
                  <a:pt x="8644" y="9088"/>
                  <a:pt x="8682" y="9029"/>
                </a:cubicBezTo>
                <a:cubicBezTo>
                  <a:pt x="8772" y="8890"/>
                  <a:pt x="8894" y="9075"/>
                  <a:pt x="8905" y="9153"/>
                </a:cubicBezTo>
                <a:cubicBezTo>
                  <a:pt x="8905" y="9203"/>
                  <a:pt x="8905" y="9219"/>
                  <a:pt x="8905" y="9252"/>
                </a:cubicBezTo>
                <a:cubicBezTo>
                  <a:pt x="8936" y="9135"/>
                  <a:pt x="9008" y="8910"/>
                  <a:pt x="9103" y="9178"/>
                </a:cubicBezTo>
                <a:cubicBezTo>
                  <a:pt x="9103" y="9261"/>
                  <a:pt x="9103" y="9277"/>
                  <a:pt x="9103" y="9327"/>
                </a:cubicBezTo>
              </a:path>
              <a:path w="6202" h="1713">
                <a:moveTo>
                  <a:pt x="9302" y="9178"/>
                </a:moveTo>
                <a:cubicBezTo>
                  <a:pt x="9302" y="9261"/>
                  <a:pt x="9302" y="9277"/>
                  <a:pt x="9302" y="9327"/>
                </a:cubicBezTo>
              </a:path>
              <a:path w="6202" h="1713">
                <a:moveTo>
                  <a:pt x="9277" y="9004"/>
                </a:moveTo>
                <a:lnTo>
                  <a:pt x="9277" y="9004"/>
                </a:lnTo>
              </a:path>
              <a:path w="6202" h="1713">
                <a:moveTo>
                  <a:pt x="9426" y="9227"/>
                </a:moveTo>
                <a:cubicBezTo>
                  <a:pt x="9303" y="9291"/>
                  <a:pt x="9506" y="9088"/>
                  <a:pt x="9575" y="9054"/>
                </a:cubicBezTo>
                <a:cubicBezTo>
                  <a:pt x="9657" y="9137"/>
                  <a:pt x="9642" y="9174"/>
                  <a:pt x="9649" y="9302"/>
                </a:cubicBezTo>
              </a:path>
              <a:path w="6202" h="1713">
                <a:moveTo>
                  <a:pt x="10418" y="9500"/>
                </a:moveTo>
                <a:cubicBezTo>
                  <a:pt x="10513" y="9476"/>
                  <a:pt x="10628" y="9482"/>
                  <a:pt x="10740" y="9475"/>
                </a:cubicBezTo>
              </a:path>
              <a:path w="6202" h="1713">
                <a:moveTo>
                  <a:pt x="10368" y="9649"/>
                </a:moveTo>
                <a:cubicBezTo>
                  <a:pt x="10409" y="9649"/>
                  <a:pt x="10451" y="9649"/>
                  <a:pt x="10492" y="9649"/>
                </a:cubicBezTo>
              </a:path>
              <a:path w="6202" h="1713">
                <a:moveTo>
                  <a:pt x="11212" y="9674"/>
                </a:moveTo>
                <a:cubicBezTo>
                  <a:pt x="11530" y="9534"/>
                  <a:pt x="11960" y="9588"/>
                  <a:pt x="12303" y="9599"/>
                </a:cubicBezTo>
                <a:cubicBezTo>
                  <a:pt x="12675" y="9620"/>
                  <a:pt x="12749" y="9628"/>
                  <a:pt x="12973" y="9624"/>
                </a:cubicBezTo>
              </a:path>
              <a:path w="6202" h="1713">
                <a:moveTo>
                  <a:pt x="11410" y="9748"/>
                </a:moveTo>
                <a:cubicBezTo>
                  <a:pt x="11389" y="9921"/>
                  <a:pt x="11401" y="10105"/>
                  <a:pt x="11361" y="10269"/>
                </a:cubicBezTo>
              </a:path>
              <a:path w="6202" h="1713">
                <a:moveTo>
                  <a:pt x="11881" y="10021"/>
                </a:moveTo>
                <a:cubicBezTo>
                  <a:pt x="11919" y="9983"/>
                  <a:pt x="11906" y="10139"/>
                  <a:pt x="11906" y="10195"/>
                </a:cubicBezTo>
                <a:cubicBezTo>
                  <a:pt x="11895" y="10086"/>
                  <a:pt x="11929" y="9983"/>
                  <a:pt x="12055" y="9947"/>
                </a:cubicBezTo>
                <a:cubicBezTo>
                  <a:pt x="12164" y="9916"/>
                  <a:pt x="12164" y="10113"/>
                  <a:pt x="12179" y="10170"/>
                </a:cubicBezTo>
                <a:cubicBezTo>
                  <a:pt x="12187" y="10187"/>
                  <a:pt x="12196" y="10203"/>
                  <a:pt x="12204" y="10220"/>
                </a:cubicBezTo>
                <a:cubicBezTo>
                  <a:pt x="12204" y="10133"/>
                  <a:pt x="12173" y="10046"/>
                  <a:pt x="12278" y="10021"/>
                </a:cubicBezTo>
                <a:cubicBezTo>
                  <a:pt x="12398" y="9992"/>
                  <a:pt x="12396" y="10222"/>
                  <a:pt x="12402" y="10294"/>
                </a:cubicBezTo>
              </a:path>
              <a:path w="6202" h="1713">
                <a:moveTo>
                  <a:pt x="12601" y="10096"/>
                </a:moveTo>
                <a:cubicBezTo>
                  <a:pt x="12594" y="10162"/>
                  <a:pt x="12586" y="10216"/>
                  <a:pt x="12601" y="10269"/>
                </a:cubicBezTo>
              </a:path>
              <a:path w="6202" h="1713">
                <a:moveTo>
                  <a:pt x="12601" y="9947"/>
                </a:moveTo>
                <a:lnTo>
                  <a:pt x="12601" y="9947"/>
                </a:lnTo>
              </a:path>
              <a:path w="6202" h="1713">
                <a:moveTo>
                  <a:pt x="12725" y="9823"/>
                </a:moveTo>
                <a:cubicBezTo>
                  <a:pt x="12756" y="9963"/>
                  <a:pt x="12762" y="10111"/>
                  <a:pt x="12799" y="10244"/>
                </a:cubicBezTo>
              </a:path>
              <a:path w="6202" h="1713">
                <a:moveTo>
                  <a:pt x="13022" y="10120"/>
                </a:moveTo>
                <a:cubicBezTo>
                  <a:pt x="13106" y="10100"/>
                  <a:pt x="13126" y="10099"/>
                  <a:pt x="13171" y="10071"/>
                </a:cubicBezTo>
                <a:cubicBezTo>
                  <a:pt x="13160" y="9976"/>
                  <a:pt x="13041" y="9898"/>
                  <a:pt x="12998" y="10071"/>
                </a:cubicBezTo>
                <a:cubicBezTo>
                  <a:pt x="12966" y="10201"/>
                  <a:pt x="13008" y="10202"/>
                  <a:pt x="13097" y="10220"/>
                </a:cubicBezTo>
              </a:path>
              <a:path w="6202" h="1713">
                <a:moveTo>
                  <a:pt x="11038" y="8954"/>
                </a:moveTo>
                <a:cubicBezTo>
                  <a:pt x="11013" y="9004"/>
                  <a:pt x="11005" y="9021"/>
                  <a:pt x="10988" y="9054"/>
                </a:cubicBezTo>
                <a:cubicBezTo>
                  <a:pt x="11038" y="8921"/>
                  <a:pt x="11050" y="8934"/>
                  <a:pt x="11212" y="8930"/>
                </a:cubicBezTo>
                <a:cubicBezTo>
                  <a:pt x="11328" y="8930"/>
                  <a:pt x="11361" y="8930"/>
                  <a:pt x="11435" y="8930"/>
                </a:cubicBezTo>
                <a:cubicBezTo>
                  <a:pt x="11371" y="9141"/>
                  <a:pt x="11275" y="9339"/>
                  <a:pt x="11212" y="9550"/>
                </a:cubicBezTo>
                <a:cubicBezTo>
                  <a:pt x="11212" y="9558"/>
                  <a:pt x="11212" y="9567"/>
                  <a:pt x="11212" y="9575"/>
                </a:cubicBezTo>
              </a:path>
              <a:path w="6202" h="1713">
                <a:moveTo>
                  <a:pt x="11559" y="9426"/>
                </a:moveTo>
                <a:cubicBezTo>
                  <a:pt x="11551" y="9451"/>
                  <a:pt x="11542" y="9475"/>
                  <a:pt x="11534" y="9500"/>
                </a:cubicBezTo>
                <a:cubicBezTo>
                  <a:pt x="11636" y="9478"/>
                  <a:pt x="11730" y="9462"/>
                  <a:pt x="11609" y="9401"/>
                </a:cubicBezTo>
              </a:path>
              <a:path w="6202" h="1713">
                <a:moveTo>
                  <a:pt x="11931" y="8979"/>
                </a:moveTo>
                <a:cubicBezTo>
                  <a:pt x="12058" y="8916"/>
                  <a:pt x="11939" y="9198"/>
                  <a:pt x="11931" y="9227"/>
                </a:cubicBezTo>
                <a:cubicBezTo>
                  <a:pt x="11891" y="9380"/>
                  <a:pt x="11935" y="9467"/>
                  <a:pt x="12105" y="9426"/>
                </a:cubicBezTo>
                <a:cubicBezTo>
                  <a:pt x="12215" y="9382"/>
                  <a:pt x="12248" y="9377"/>
                  <a:pt x="12278" y="9302"/>
                </a:cubicBezTo>
                <a:cubicBezTo>
                  <a:pt x="12240" y="9263"/>
                  <a:pt x="12150" y="9203"/>
                  <a:pt x="12105" y="9277"/>
                </a:cubicBezTo>
                <a:cubicBezTo>
                  <a:pt x="12084" y="9361"/>
                  <a:pt x="12069" y="9380"/>
                  <a:pt x="12105" y="9426"/>
                </a:cubicBezTo>
              </a:path>
              <a:path w="6202" h="1713">
                <a:moveTo>
                  <a:pt x="12477" y="9004"/>
                </a:moveTo>
                <a:cubicBezTo>
                  <a:pt x="12446" y="9111"/>
                  <a:pt x="12380" y="9264"/>
                  <a:pt x="12402" y="9376"/>
                </a:cubicBezTo>
                <a:cubicBezTo>
                  <a:pt x="12419" y="9466"/>
                  <a:pt x="12525" y="9486"/>
                  <a:pt x="12601" y="9475"/>
                </a:cubicBezTo>
                <a:cubicBezTo>
                  <a:pt x="12685" y="9463"/>
                  <a:pt x="12707" y="9436"/>
                  <a:pt x="12750" y="9376"/>
                </a:cubicBezTo>
                <a:cubicBezTo>
                  <a:pt x="12691" y="9318"/>
                  <a:pt x="12611" y="9311"/>
                  <a:pt x="12551" y="9401"/>
                </a:cubicBezTo>
                <a:cubicBezTo>
                  <a:pt x="12551" y="9434"/>
                  <a:pt x="12551" y="9450"/>
                  <a:pt x="12551" y="9475"/>
                </a:cubicBezTo>
              </a:path>
              <a:path w="6202" h="1713">
                <a:moveTo>
                  <a:pt x="12452" y="8756"/>
                </a:moveTo>
                <a:cubicBezTo>
                  <a:pt x="12677" y="8733"/>
                  <a:pt x="12555" y="8731"/>
                  <a:pt x="12402" y="8731"/>
                </a:cubicBezTo>
                <a:cubicBezTo>
                  <a:pt x="12460" y="8731"/>
                  <a:pt x="12518" y="8731"/>
                  <a:pt x="12576" y="87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152800"/>
            <a:ext cx="3322440" cy="1677960"/>
          </a:xfrm>
          <a:custGeom>
            <a:avLst/>
            <a:gdLst/>
            <a:ahLst/>
            <a:rect l="l" t="t" r="r" b="b"/>
            <a:pathLst>
              <a:path w="9229" h="4664">
                <a:moveTo>
                  <a:pt x="17859" y="9227"/>
                </a:moveTo>
                <a:cubicBezTo>
                  <a:pt x="18020" y="9227"/>
                  <a:pt x="18173" y="9226"/>
                  <a:pt x="18331" y="9252"/>
                </a:cubicBezTo>
              </a:path>
              <a:path w="9229" h="4664">
                <a:moveTo>
                  <a:pt x="17959" y="9426"/>
                </a:moveTo>
                <a:cubicBezTo>
                  <a:pt x="18084" y="9419"/>
                  <a:pt x="18206" y="9407"/>
                  <a:pt x="18331" y="9401"/>
                </a:cubicBezTo>
              </a:path>
              <a:path w="9229" h="4664">
                <a:moveTo>
                  <a:pt x="19124" y="9327"/>
                </a:moveTo>
                <a:cubicBezTo>
                  <a:pt x="19464" y="9319"/>
                  <a:pt x="19801" y="9297"/>
                  <a:pt x="20141" y="9277"/>
                </a:cubicBezTo>
                <a:cubicBezTo>
                  <a:pt x="20433" y="9260"/>
                  <a:pt x="20718" y="9252"/>
                  <a:pt x="21010" y="9252"/>
                </a:cubicBezTo>
              </a:path>
              <a:path w="9229" h="4664">
                <a:moveTo>
                  <a:pt x="19273" y="9525"/>
                </a:moveTo>
                <a:cubicBezTo>
                  <a:pt x="19291" y="9727"/>
                  <a:pt x="19302" y="9965"/>
                  <a:pt x="19273" y="10170"/>
                </a:cubicBezTo>
                <a:cubicBezTo>
                  <a:pt x="19248" y="10220"/>
                  <a:pt x="19240" y="10237"/>
                  <a:pt x="19273" y="10170"/>
                </a:cubicBezTo>
              </a:path>
              <a:path w="9229" h="4664">
                <a:moveTo>
                  <a:pt x="19745" y="9897"/>
                </a:moveTo>
                <a:cubicBezTo>
                  <a:pt x="19752" y="9972"/>
                  <a:pt x="19762" y="10045"/>
                  <a:pt x="19769" y="10120"/>
                </a:cubicBezTo>
                <a:cubicBezTo>
                  <a:pt x="19754" y="10018"/>
                  <a:pt x="19740" y="9835"/>
                  <a:pt x="19893" y="9823"/>
                </a:cubicBezTo>
                <a:cubicBezTo>
                  <a:pt x="20025" y="9812"/>
                  <a:pt x="20033" y="10010"/>
                  <a:pt x="20042" y="10096"/>
                </a:cubicBezTo>
                <a:cubicBezTo>
                  <a:pt x="20049" y="9977"/>
                  <a:pt x="20054" y="9920"/>
                  <a:pt x="20117" y="9823"/>
                </a:cubicBezTo>
                <a:cubicBezTo>
                  <a:pt x="20280" y="9836"/>
                  <a:pt x="20283" y="9948"/>
                  <a:pt x="20315" y="10120"/>
                </a:cubicBezTo>
                <a:cubicBezTo>
                  <a:pt x="20315" y="10128"/>
                  <a:pt x="20315" y="10137"/>
                  <a:pt x="20315" y="10145"/>
                </a:cubicBezTo>
              </a:path>
              <a:path w="9229" h="4664">
                <a:moveTo>
                  <a:pt x="20513" y="9897"/>
                </a:moveTo>
                <a:cubicBezTo>
                  <a:pt x="20513" y="9964"/>
                  <a:pt x="20517" y="9998"/>
                  <a:pt x="20538" y="10046"/>
                </a:cubicBezTo>
              </a:path>
              <a:path w="9229" h="4664">
                <a:moveTo>
                  <a:pt x="20439" y="9674"/>
                </a:moveTo>
                <a:lnTo>
                  <a:pt x="20439" y="9674"/>
                </a:lnTo>
              </a:path>
              <a:path w="9229" h="4664">
                <a:moveTo>
                  <a:pt x="20662" y="9575"/>
                </a:moveTo>
                <a:cubicBezTo>
                  <a:pt x="20721" y="9735"/>
                  <a:pt x="20760" y="9901"/>
                  <a:pt x="20786" y="10071"/>
                </a:cubicBezTo>
              </a:path>
              <a:path w="9229" h="4664">
                <a:moveTo>
                  <a:pt x="20910" y="9922"/>
                </a:moveTo>
                <a:cubicBezTo>
                  <a:pt x="21010" y="9887"/>
                  <a:pt x="21109" y="9858"/>
                  <a:pt x="21208" y="9823"/>
                </a:cubicBezTo>
                <a:cubicBezTo>
                  <a:pt x="21100" y="9697"/>
                  <a:pt x="20994" y="9782"/>
                  <a:pt x="20985" y="9947"/>
                </a:cubicBezTo>
                <a:cubicBezTo>
                  <a:pt x="20973" y="10171"/>
                  <a:pt x="21240" y="10070"/>
                  <a:pt x="21357" y="10046"/>
                </a:cubicBezTo>
              </a:path>
              <a:path w="9229" h="4664">
                <a:moveTo>
                  <a:pt x="15453" y="9277"/>
                </a:moveTo>
                <a:cubicBezTo>
                  <a:pt x="15877" y="9394"/>
                  <a:pt x="16254" y="9356"/>
                  <a:pt x="16694" y="9327"/>
                </a:cubicBezTo>
                <a:cubicBezTo>
                  <a:pt x="16937" y="9311"/>
                  <a:pt x="17173" y="9291"/>
                  <a:pt x="17413" y="9252"/>
                </a:cubicBezTo>
              </a:path>
              <a:path w="9229" h="4664">
                <a:moveTo>
                  <a:pt x="15974" y="8607"/>
                </a:moveTo>
                <a:cubicBezTo>
                  <a:pt x="15949" y="8657"/>
                  <a:pt x="15941" y="8673"/>
                  <a:pt x="15900" y="8682"/>
                </a:cubicBezTo>
                <a:cubicBezTo>
                  <a:pt x="16067" y="8543"/>
                  <a:pt x="16254" y="8647"/>
                  <a:pt x="16123" y="8905"/>
                </a:cubicBezTo>
                <a:cubicBezTo>
                  <a:pt x="16046" y="9057"/>
                  <a:pt x="15817" y="9156"/>
                  <a:pt x="15751" y="8979"/>
                </a:cubicBezTo>
                <a:cubicBezTo>
                  <a:pt x="15970" y="8881"/>
                  <a:pt x="16127" y="8875"/>
                  <a:pt x="16321" y="9054"/>
                </a:cubicBezTo>
                <a:cubicBezTo>
                  <a:pt x="16329" y="9070"/>
                  <a:pt x="16338" y="9087"/>
                  <a:pt x="16346" y="9103"/>
                </a:cubicBezTo>
              </a:path>
              <a:path w="9229" h="4664">
                <a:moveTo>
                  <a:pt x="16545" y="8508"/>
                </a:moveTo>
                <a:cubicBezTo>
                  <a:pt x="16508" y="8640"/>
                  <a:pt x="16371" y="8989"/>
                  <a:pt x="16570" y="9079"/>
                </a:cubicBezTo>
                <a:cubicBezTo>
                  <a:pt x="16799" y="9183"/>
                  <a:pt x="16933" y="8965"/>
                  <a:pt x="16966" y="8806"/>
                </a:cubicBezTo>
                <a:cubicBezTo>
                  <a:pt x="16771" y="8790"/>
                  <a:pt x="16766" y="8873"/>
                  <a:pt x="16718" y="9054"/>
                </a:cubicBezTo>
              </a:path>
              <a:path w="9229" h="4664">
                <a:moveTo>
                  <a:pt x="16520" y="9599"/>
                </a:moveTo>
                <a:cubicBezTo>
                  <a:pt x="16568" y="9730"/>
                  <a:pt x="16572" y="9794"/>
                  <a:pt x="16520" y="9922"/>
                </a:cubicBezTo>
                <a:cubicBezTo>
                  <a:pt x="16649" y="9902"/>
                  <a:pt x="16963" y="9932"/>
                  <a:pt x="16991" y="9773"/>
                </a:cubicBezTo>
                <a:cubicBezTo>
                  <a:pt x="16991" y="9637"/>
                  <a:pt x="16997" y="9599"/>
                  <a:pt x="16942" y="9525"/>
                </a:cubicBezTo>
                <a:cubicBezTo>
                  <a:pt x="16834" y="9589"/>
                  <a:pt x="16830" y="9918"/>
                  <a:pt x="16842" y="10096"/>
                </a:cubicBezTo>
                <a:cubicBezTo>
                  <a:pt x="16846" y="10154"/>
                  <a:pt x="16867" y="10278"/>
                  <a:pt x="16867" y="10220"/>
                </a:cubicBezTo>
              </a:path>
              <a:path w="9229" h="4664">
                <a:moveTo>
                  <a:pt x="17239" y="10096"/>
                </a:moveTo>
                <a:cubicBezTo>
                  <a:pt x="17379" y="10072"/>
                  <a:pt x="17420" y="10064"/>
                  <a:pt x="17512" y="10071"/>
                </a:cubicBezTo>
              </a:path>
              <a:path w="9229" h="4664">
                <a:moveTo>
                  <a:pt x="17264" y="9723"/>
                </a:moveTo>
                <a:lnTo>
                  <a:pt x="17264" y="9723"/>
                </a:lnTo>
              </a:path>
              <a:path w="9229" h="4664">
                <a:moveTo>
                  <a:pt x="17338" y="10344"/>
                </a:moveTo>
                <a:lnTo>
                  <a:pt x="17338" y="10344"/>
                </a:lnTo>
              </a:path>
              <a:path w="9229" h="4664">
                <a:moveTo>
                  <a:pt x="17611" y="10120"/>
                </a:moveTo>
                <a:cubicBezTo>
                  <a:pt x="17727" y="10226"/>
                  <a:pt x="17710" y="10229"/>
                  <a:pt x="17859" y="10220"/>
                </a:cubicBezTo>
              </a:path>
              <a:path w="9229" h="4664">
                <a:moveTo>
                  <a:pt x="17959" y="9996"/>
                </a:moveTo>
                <a:cubicBezTo>
                  <a:pt x="17945" y="10133"/>
                  <a:pt x="17934" y="10233"/>
                  <a:pt x="17934" y="10368"/>
                </a:cubicBezTo>
              </a:path>
              <a:path w="9229" h="4664">
                <a:moveTo>
                  <a:pt x="17190" y="8731"/>
                </a:moveTo>
                <a:cubicBezTo>
                  <a:pt x="17257" y="8708"/>
                  <a:pt x="17275" y="8703"/>
                  <a:pt x="17314" y="8682"/>
                </a:cubicBezTo>
              </a:path>
              <a:path w="9229" h="4664">
                <a:moveTo>
                  <a:pt x="17115" y="8409"/>
                </a:moveTo>
                <a:lnTo>
                  <a:pt x="17115" y="8409"/>
                </a:lnTo>
              </a:path>
              <a:path w="9229" h="4664">
                <a:moveTo>
                  <a:pt x="17264" y="8806"/>
                </a:moveTo>
                <a:lnTo>
                  <a:pt x="17264" y="8806"/>
                </a:lnTo>
              </a:path>
              <a:path w="9229" h="4664">
                <a:moveTo>
                  <a:pt x="17388" y="8434"/>
                </a:moveTo>
                <a:cubicBezTo>
                  <a:pt x="17429" y="8495"/>
                  <a:pt x="17570" y="8530"/>
                  <a:pt x="17636" y="8458"/>
                </a:cubicBezTo>
                <a:cubicBezTo>
                  <a:pt x="17644" y="8425"/>
                  <a:pt x="17653" y="8392"/>
                  <a:pt x="17661" y="8359"/>
                </a:cubicBezTo>
              </a:path>
              <a:path w="9229" h="4664">
                <a:moveTo>
                  <a:pt x="17611" y="8434"/>
                </a:moveTo>
                <a:cubicBezTo>
                  <a:pt x="17611" y="8500"/>
                  <a:pt x="17611" y="8566"/>
                  <a:pt x="17611" y="8632"/>
                </a:cubicBezTo>
              </a:path>
              <a:path w="9229" h="4664">
                <a:moveTo>
                  <a:pt x="22845" y="7020"/>
                </a:moveTo>
                <a:cubicBezTo>
                  <a:pt x="22972" y="6986"/>
                  <a:pt x="23268" y="6878"/>
                  <a:pt x="23341" y="7069"/>
                </a:cubicBezTo>
                <a:cubicBezTo>
                  <a:pt x="23427" y="7296"/>
                  <a:pt x="23133" y="7350"/>
                  <a:pt x="23019" y="7317"/>
                </a:cubicBezTo>
                <a:cubicBezTo>
                  <a:pt x="23067" y="7222"/>
                  <a:pt x="23248" y="7283"/>
                  <a:pt x="23366" y="7317"/>
                </a:cubicBezTo>
                <a:cubicBezTo>
                  <a:pt x="23383" y="7325"/>
                  <a:pt x="23399" y="7334"/>
                  <a:pt x="23416" y="7342"/>
                </a:cubicBezTo>
              </a:path>
              <a:path w="9229" h="4664">
                <a:moveTo>
                  <a:pt x="23564" y="6896"/>
                </a:moveTo>
                <a:cubicBezTo>
                  <a:pt x="23547" y="6998"/>
                  <a:pt x="23421" y="7221"/>
                  <a:pt x="23540" y="7293"/>
                </a:cubicBezTo>
                <a:cubicBezTo>
                  <a:pt x="23640" y="7353"/>
                  <a:pt x="23781" y="7147"/>
                  <a:pt x="23837" y="7094"/>
                </a:cubicBezTo>
                <a:cubicBezTo>
                  <a:pt x="23746" y="7156"/>
                  <a:pt x="23718" y="7193"/>
                  <a:pt x="23738" y="7293"/>
                </a:cubicBezTo>
              </a:path>
              <a:path w="9229" h="4664">
                <a:moveTo>
                  <a:pt x="22696" y="7541"/>
                </a:moveTo>
                <a:cubicBezTo>
                  <a:pt x="22679" y="7380"/>
                  <a:pt x="22657" y="7171"/>
                  <a:pt x="22647" y="6995"/>
                </a:cubicBezTo>
                <a:cubicBezTo>
                  <a:pt x="22643" y="6917"/>
                  <a:pt x="22638" y="6889"/>
                  <a:pt x="22622" y="6821"/>
                </a:cubicBezTo>
                <a:cubicBezTo>
                  <a:pt x="22955" y="6722"/>
                  <a:pt x="23336" y="6806"/>
                  <a:pt x="23688" y="6796"/>
                </a:cubicBezTo>
                <a:cubicBezTo>
                  <a:pt x="23995" y="6776"/>
                  <a:pt x="24054" y="6778"/>
                  <a:pt x="24234" y="6747"/>
                </a:cubicBezTo>
              </a:path>
              <a:path w="9229" h="4664">
                <a:moveTo>
                  <a:pt x="21903" y="7119"/>
                </a:moveTo>
                <a:cubicBezTo>
                  <a:pt x="21896" y="7186"/>
                  <a:pt x="21885" y="7250"/>
                  <a:pt x="21878" y="7317"/>
                </a:cubicBezTo>
                <a:cubicBezTo>
                  <a:pt x="22025" y="7291"/>
                  <a:pt x="22157" y="7263"/>
                  <a:pt x="22299" y="7218"/>
                </a:cubicBezTo>
              </a:path>
              <a:path w="9229" h="4664">
                <a:moveTo>
                  <a:pt x="22225" y="6970"/>
                </a:moveTo>
                <a:cubicBezTo>
                  <a:pt x="22225" y="7146"/>
                  <a:pt x="22206" y="7316"/>
                  <a:pt x="22200" y="7491"/>
                </a:cubicBezTo>
                <a:cubicBezTo>
                  <a:pt x="22200" y="7508"/>
                  <a:pt x="22200" y="7524"/>
                  <a:pt x="22200" y="7541"/>
                </a:cubicBezTo>
              </a:path>
              <a:path w="9229" h="4664">
                <a:moveTo>
                  <a:pt x="23540" y="6176"/>
                </a:moveTo>
                <a:cubicBezTo>
                  <a:pt x="23494" y="6134"/>
                  <a:pt x="23497" y="6413"/>
                  <a:pt x="23515" y="6524"/>
                </a:cubicBezTo>
                <a:cubicBezTo>
                  <a:pt x="23542" y="6690"/>
                  <a:pt x="23695" y="6598"/>
                  <a:pt x="23763" y="6524"/>
                </a:cubicBezTo>
                <a:cubicBezTo>
                  <a:pt x="23809" y="6453"/>
                  <a:pt x="23825" y="6434"/>
                  <a:pt x="23812" y="6375"/>
                </a:cubicBezTo>
                <a:cubicBezTo>
                  <a:pt x="23796" y="6367"/>
                  <a:pt x="23779" y="6358"/>
                  <a:pt x="23763" y="6350"/>
                </a:cubicBezTo>
                <a:cubicBezTo>
                  <a:pt x="23631" y="6438"/>
                  <a:pt x="23577" y="6516"/>
                  <a:pt x="23589" y="6672"/>
                </a:cubicBezTo>
              </a:path>
              <a:path w="9229" h="4664">
                <a:moveTo>
                  <a:pt x="23068" y="7640"/>
                </a:moveTo>
                <a:cubicBezTo>
                  <a:pt x="23068" y="7605"/>
                  <a:pt x="23064" y="7606"/>
                  <a:pt x="23044" y="7665"/>
                </a:cubicBezTo>
                <a:cubicBezTo>
                  <a:pt x="22914" y="7715"/>
                  <a:pt x="23141" y="7555"/>
                  <a:pt x="23217" y="7590"/>
                </a:cubicBezTo>
                <a:cubicBezTo>
                  <a:pt x="23400" y="7675"/>
                  <a:pt x="23161" y="7891"/>
                  <a:pt x="23068" y="7913"/>
                </a:cubicBezTo>
                <a:cubicBezTo>
                  <a:pt x="23043" y="7913"/>
                  <a:pt x="23019" y="7913"/>
                  <a:pt x="22994" y="7913"/>
                </a:cubicBezTo>
                <a:cubicBezTo>
                  <a:pt x="23099" y="7763"/>
                  <a:pt x="23204" y="7711"/>
                  <a:pt x="23391" y="7789"/>
                </a:cubicBezTo>
                <a:cubicBezTo>
                  <a:pt x="23430" y="7828"/>
                  <a:pt x="23446" y="7829"/>
                  <a:pt x="23440" y="7863"/>
                </a:cubicBezTo>
              </a:path>
              <a:path w="9229" h="4664">
                <a:moveTo>
                  <a:pt x="23564" y="7541"/>
                </a:moveTo>
                <a:cubicBezTo>
                  <a:pt x="23538" y="7588"/>
                  <a:pt x="23523" y="7632"/>
                  <a:pt x="23515" y="7689"/>
                </a:cubicBezTo>
                <a:cubicBezTo>
                  <a:pt x="23722" y="7722"/>
                  <a:pt x="23771" y="7684"/>
                  <a:pt x="23812" y="7466"/>
                </a:cubicBezTo>
                <a:cubicBezTo>
                  <a:pt x="23728" y="7408"/>
                  <a:pt x="23717" y="7789"/>
                  <a:pt x="23713" y="7813"/>
                </a:cubicBezTo>
                <a:cubicBezTo>
                  <a:pt x="23705" y="7855"/>
                  <a:pt x="23696" y="7896"/>
                  <a:pt x="23688" y="7938"/>
                </a:cubicBezTo>
              </a:path>
              <a:path w="9229" h="4664">
                <a:moveTo>
                  <a:pt x="22944" y="8111"/>
                </a:moveTo>
                <a:cubicBezTo>
                  <a:pt x="23333" y="8079"/>
                  <a:pt x="23722" y="8033"/>
                  <a:pt x="24110" y="8012"/>
                </a:cubicBezTo>
              </a:path>
              <a:path w="9229" h="4664">
                <a:moveTo>
                  <a:pt x="22597" y="7838"/>
                </a:moveTo>
                <a:cubicBezTo>
                  <a:pt x="22680" y="7838"/>
                  <a:pt x="22713" y="7838"/>
                  <a:pt x="22771" y="7838"/>
                </a:cubicBezTo>
              </a:path>
              <a:path w="9229" h="4664">
                <a:moveTo>
                  <a:pt x="23713" y="8285"/>
                </a:moveTo>
                <a:cubicBezTo>
                  <a:pt x="23599" y="8343"/>
                  <a:pt x="23849" y="8195"/>
                  <a:pt x="23912" y="8310"/>
                </a:cubicBezTo>
                <a:cubicBezTo>
                  <a:pt x="23992" y="8455"/>
                  <a:pt x="23822" y="8757"/>
                  <a:pt x="23639" y="8682"/>
                </a:cubicBezTo>
                <a:cubicBezTo>
                  <a:pt x="23622" y="8657"/>
                  <a:pt x="23606" y="8632"/>
                  <a:pt x="23589" y="8607"/>
                </a:cubicBezTo>
                <a:cubicBezTo>
                  <a:pt x="23701" y="8496"/>
                  <a:pt x="23801" y="8448"/>
                  <a:pt x="23961" y="8533"/>
                </a:cubicBezTo>
                <a:cubicBezTo>
                  <a:pt x="24008" y="8579"/>
                  <a:pt x="24022" y="8591"/>
                  <a:pt x="24036" y="8632"/>
                </a:cubicBezTo>
              </a:path>
              <a:path w="9229" h="4664">
                <a:moveTo>
                  <a:pt x="24036" y="7243"/>
                </a:moveTo>
                <a:lnTo>
                  <a:pt x="24036" y="7243"/>
                </a:lnTo>
              </a:path>
              <a:path w="9229" h="4664">
                <a:moveTo>
                  <a:pt x="24061" y="6648"/>
                </a:moveTo>
                <a:cubicBezTo>
                  <a:pt x="24026" y="6699"/>
                  <a:pt x="24018" y="6734"/>
                  <a:pt x="24011" y="6796"/>
                </a:cubicBezTo>
                <a:cubicBezTo>
                  <a:pt x="24051" y="6560"/>
                  <a:pt x="24023" y="6672"/>
                  <a:pt x="24061" y="6648"/>
                </a:cubicBezTo>
                <a:cubicBezTo>
                  <a:pt x="24156" y="6588"/>
                  <a:pt x="23969" y="6636"/>
                  <a:pt x="23937" y="6648"/>
                </a:cubicBezTo>
              </a:path>
              <a:path w="9229" h="4664">
                <a:moveTo>
                  <a:pt x="24309" y="6995"/>
                </a:moveTo>
                <a:cubicBezTo>
                  <a:pt x="24284" y="6871"/>
                  <a:pt x="24213" y="6907"/>
                  <a:pt x="24110" y="6921"/>
                </a:cubicBezTo>
                <a:cubicBezTo>
                  <a:pt x="24071" y="7056"/>
                  <a:pt x="24102" y="7331"/>
                  <a:pt x="24333" y="7169"/>
                </a:cubicBezTo>
                <a:cubicBezTo>
                  <a:pt x="24442" y="7092"/>
                  <a:pt x="24369" y="6973"/>
                  <a:pt x="24333" y="6896"/>
                </a:cubicBezTo>
              </a:path>
              <a:path w="9229" h="4664">
                <a:moveTo>
                  <a:pt x="24259" y="7243"/>
                </a:moveTo>
                <a:cubicBezTo>
                  <a:pt x="24271" y="7377"/>
                  <a:pt x="24284" y="7504"/>
                  <a:pt x="24284" y="7640"/>
                </a:cubicBezTo>
              </a:path>
              <a:path w="9229" h="4664">
                <a:moveTo>
                  <a:pt x="24135" y="8285"/>
                </a:moveTo>
                <a:cubicBezTo>
                  <a:pt x="24030" y="8212"/>
                  <a:pt x="24068" y="8434"/>
                  <a:pt x="24110" y="8533"/>
                </a:cubicBezTo>
                <a:cubicBezTo>
                  <a:pt x="24222" y="8542"/>
                  <a:pt x="24407" y="8510"/>
                  <a:pt x="24358" y="8334"/>
                </a:cubicBezTo>
                <a:cubicBezTo>
                  <a:pt x="24307" y="8283"/>
                  <a:pt x="24287" y="8265"/>
                  <a:pt x="24234" y="8260"/>
                </a:cubicBezTo>
              </a:path>
              <a:path w="9229" h="4664">
                <a:moveTo>
                  <a:pt x="24581" y="6028"/>
                </a:moveTo>
                <a:cubicBezTo>
                  <a:pt x="24566" y="5981"/>
                  <a:pt x="24397" y="5987"/>
                  <a:pt x="24333" y="5978"/>
                </a:cubicBezTo>
                <a:cubicBezTo>
                  <a:pt x="24279" y="5971"/>
                  <a:pt x="24264" y="6199"/>
                  <a:pt x="24259" y="6251"/>
                </a:cubicBezTo>
                <a:cubicBezTo>
                  <a:pt x="24360" y="6239"/>
                  <a:pt x="24636" y="6126"/>
                  <a:pt x="24681" y="6300"/>
                </a:cubicBezTo>
                <a:cubicBezTo>
                  <a:pt x="24733" y="6503"/>
                  <a:pt x="24454" y="6543"/>
                  <a:pt x="24333" y="6573"/>
                </a:cubicBezTo>
              </a:path>
              <a:path w="9229" h="4664">
                <a:moveTo>
                  <a:pt x="23713" y="8905"/>
                </a:moveTo>
                <a:cubicBezTo>
                  <a:pt x="23705" y="8888"/>
                  <a:pt x="23696" y="8872"/>
                  <a:pt x="23688" y="8855"/>
                </a:cubicBezTo>
                <a:cubicBezTo>
                  <a:pt x="23819" y="8822"/>
                  <a:pt x="23995" y="8859"/>
                  <a:pt x="23837" y="9054"/>
                </a:cubicBezTo>
                <a:cubicBezTo>
                  <a:pt x="23757" y="9153"/>
                  <a:pt x="23639" y="9146"/>
                  <a:pt x="23540" y="9128"/>
                </a:cubicBezTo>
                <a:cubicBezTo>
                  <a:pt x="23604" y="8998"/>
                  <a:pt x="23666" y="8922"/>
                  <a:pt x="23812" y="9029"/>
                </a:cubicBezTo>
                <a:cubicBezTo>
                  <a:pt x="23829" y="9046"/>
                  <a:pt x="23845" y="9062"/>
                  <a:pt x="23862" y="9079"/>
                </a:cubicBezTo>
              </a:path>
              <a:path w="9229" h="4664">
                <a:moveTo>
                  <a:pt x="24110" y="8806"/>
                </a:moveTo>
                <a:cubicBezTo>
                  <a:pt x="24069" y="8925"/>
                  <a:pt x="24007" y="9027"/>
                  <a:pt x="24135" y="9103"/>
                </a:cubicBezTo>
                <a:cubicBezTo>
                  <a:pt x="24212" y="8990"/>
                  <a:pt x="24200" y="8948"/>
                  <a:pt x="24085" y="8880"/>
                </a:cubicBezTo>
              </a:path>
              <a:path w="9229" h="4664">
                <a:moveTo>
                  <a:pt x="23217" y="9029"/>
                </a:moveTo>
                <a:cubicBezTo>
                  <a:pt x="23258" y="9021"/>
                  <a:pt x="23300" y="9012"/>
                  <a:pt x="23341" y="9004"/>
                </a:cubicBezTo>
              </a:path>
              <a:path w="9229" h="4664">
                <a:moveTo>
                  <a:pt x="23391" y="9376"/>
                </a:moveTo>
                <a:cubicBezTo>
                  <a:pt x="23673" y="9361"/>
                  <a:pt x="23951" y="9332"/>
                  <a:pt x="24234" y="9327"/>
                </a:cubicBezTo>
                <a:cubicBezTo>
                  <a:pt x="24259" y="9327"/>
                  <a:pt x="24284" y="9327"/>
                  <a:pt x="24309" y="9327"/>
                </a:cubicBezTo>
              </a:path>
              <a:path w="9229" h="4664">
                <a:moveTo>
                  <a:pt x="24061" y="9426"/>
                </a:moveTo>
                <a:cubicBezTo>
                  <a:pt x="24002" y="9567"/>
                  <a:pt x="23906" y="9755"/>
                  <a:pt x="24110" y="9823"/>
                </a:cubicBezTo>
                <a:cubicBezTo>
                  <a:pt x="24143" y="9823"/>
                  <a:pt x="24176" y="9823"/>
                  <a:pt x="24209" y="9823"/>
                </a:cubicBezTo>
                <a:cubicBezTo>
                  <a:pt x="24309" y="9610"/>
                  <a:pt x="24313" y="9545"/>
                  <a:pt x="24110" y="9451"/>
                </a:cubicBezTo>
              </a:path>
              <a:path w="9229" h="4664">
                <a:moveTo>
                  <a:pt x="19397" y="8607"/>
                </a:moveTo>
                <a:cubicBezTo>
                  <a:pt x="19300" y="8693"/>
                  <a:pt x="19285" y="8780"/>
                  <a:pt x="19248" y="8905"/>
                </a:cubicBezTo>
                <a:cubicBezTo>
                  <a:pt x="19217" y="9008"/>
                  <a:pt x="19213" y="9046"/>
                  <a:pt x="19323" y="9103"/>
                </a:cubicBezTo>
                <a:cubicBezTo>
                  <a:pt x="19413" y="9150"/>
                  <a:pt x="19626" y="9142"/>
                  <a:pt x="19695" y="9054"/>
                </a:cubicBezTo>
                <a:cubicBezTo>
                  <a:pt x="19714" y="8976"/>
                  <a:pt x="19739" y="8959"/>
                  <a:pt x="19695" y="8930"/>
                </a:cubicBezTo>
                <a:cubicBezTo>
                  <a:pt x="19572" y="8899"/>
                  <a:pt x="19484" y="8891"/>
                  <a:pt x="19422" y="9029"/>
                </a:cubicBezTo>
                <a:cubicBezTo>
                  <a:pt x="19377" y="9129"/>
                  <a:pt x="19374" y="9189"/>
                  <a:pt x="19472" y="9203"/>
                </a:cubicBezTo>
              </a:path>
              <a:path w="9229" h="4664">
                <a:moveTo>
                  <a:pt x="19968" y="9029"/>
                </a:moveTo>
                <a:cubicBezTo>
                  <a:pt x="19895" y="9138"/>
                  <a:pt x="20028" y="9063"/>
                  <a:pt x="19943" y="9029"/>
                </a:cubicBezTo>
              </a:path>
              <a:path w="9229" h="4664">
                <a:moveTo>
                  <a:pt x="20563" y="8607"/>
                </a:moveTo>
                <a:cubicBezTo>
                  <a:pt x="20428" y="8593"/>
                  <a:pt x="20366" y="8530"/>
                  <a:pt x="20290" y="8682"/>
                </a:cubicBezTo>
                <a:cubicBezTo>
                  <a:pt x="20282" y="8715"/>
                  <a:pt x="20273" y="8748"/>
                  <a:pt x="20265" y="8781"/>
                </a:cubicBezTo>
                <a:cubicBezTo>
                  <a:pt x="20436" y="8769"/>
                  <a:pt x="20526" y="8764"/>
                  <a:pt x="20687" y="8830"/>
                </a:cubicBezTo>
                <a:cubicBezTo>
                  <a:pt x="20656" y="9036"/>
                  <a:pt x="20597" y="9076"/>
                  <a:pt x="20389" y="9054"/>
                </a:cubicBezTo>
                <a:cubicBezTo>
                  <a:pt x="20348" y="9046"/>
                  <a:pt x="20306" y="9037"/>
                  <a:pt x="20265" y="9029"/>
                </a:cubicBezTo>
              </a:path>
              <a:path w="9229" h="4664">
                <a:moveTo>
                  <a:pt x="21010" y="8855"/>
                </a:moveTo>
                <a:cubicBezTo>
                  <a:pt x="21030" y="8956"/>
                  <a:pt x="21027" y="8976"/>
                  <a:pt x="21059" y="9029"/>
                </a:cubicBezTo>
                <a:cubicBezTo>
                  <a:pt x="21046" y="8925"/>
                  <a:pt x="21107" y="8661"/>
                  <a:pt x="21233" y="8905"/>
                </a:cubicBezTo>
                <a:cubicBezTo>
                  <a:pt x="21233" y="8979"/>
                  <a:pt x="21233" y="9037"/>
                  <a:pt x="21233" y="8979"/>
                </a:cubicBezTo>
                <a:cubicBezTo>
                  <a:pt x="21253" y="8879"/>
                  <a:pt x="21251" y="8859"/>
                  <a:pt x="21282" y="8806"/>
                </a:cubicBezTo>
                <a:cubicBezTo>
                  <a:pt x="21390" y="8830"/>
                  <a:pt x="21451" y="8886"/>
                  <a:pt x="21481" y="9004"/>
                </a:cubicBezTo>
                <a:cubicBezTo>
                  <a:pt x="21481" y="9021"/>
                  <a:pt x="21481" y="9037"/>
                  <a:pt x="21481" y="9054"/>
                </a:cubicBezTo>
              </a:path>
              <a:path w="9229" h="4664">
                <a:moveTo>
                  <a:pt x="21704" y="8830"/>
                </a:moveTo>
                <a:cubicBezTo>
                  <a:pt x="21683" y="8913"/>
                  <a:pt x="21675" y="8928"/>
                  <a:pt x="21679" y="8979"/>
                </a:cubicBezTo>
              </a:path>
              <a:path w="9229" h="4664">
                <a:moveTo>
                  <a:pt x="21580" y="8682"/>
                </a:moveTo>
                <a:cubicBezTo>
                  <a:pt x="21605" y="8690"/>
                  <a:pt x="21629" y="8698"/>
                  <a:pt x="21654" y="8706"/>
                </a:cubicBezTo>
              </a:path>
              <a:path w="9229" h="4664">
                <a:moveTo>
                  <a:pt x="21853" y="8954"/>
                </a:moveTo>
                <a:cubicBezTo>
                  <a:pt x="21878" y="8869"/>
                  <a:pt x="21937" y="8684"/>
                  <a:pt x="22076" y="8806"/>
                </a:cubicBezTo>
                <a:cubicBezTo>
                  <a:pt x="22121" y="8895"/>
                  <a:pt x="22134" y="8918"/>
                  <a:pt x="22151" y="8979"/>
                </a:cubicBezTo>
              </a:path>
              <a:path w="9229" h="4664">
                <a:moveTo>
                  <a:pt x="22324" y="8930"/>
                </a:moveTo>
                <a:lnTo>
                  <a:pt x="22324" y="8930"/>
                </a:lnTo>
              </a:path>
              <a:path w="9229" h="4664">
                <a:moveTo>
                  <a:pt x="20489" y="9376"/>
                </a:moveTo>
                <a:lnTo>
                  <a:pt x="20489" y="9376"/>
                </a:lnTo>
              </a:path>
              <a:path w="9229" h="4664">
                <a:moveTo>
                  <a:pt x="20687" y="8880"/>
                </a:moveTo>
                <a:lnTo>
                  <a:pt x="20687" y="8880"/>
                </a:lnTo>
              </a:path>
              <a:path w="9229" h="4664">
                <a:moveTo>
                  <a:pt x="22771" y="7466"/>
                </a:moveTo>
                <a:lnTo>
                  <a:pt x="22771" y="7466"/>
                </a:lnTo>
              </a:path>
              <a:path w="9229" h="4664">
                <a:moveTo>
                  <a:pt x="22250" y="7739"/>
                </a:moveTo>
                <a:cubicBezTo>
                  <a:pt x="22258" y="7747"/>
                  <a:pt x="22267" y="7756"/>
                  <a:pt x="22275" y="7764"/>
                </a:cubicBezTo>
              </a:path>
              <a:path w="9229" h="4664">
                <a:moveTo>
                  <a:pt x="21605" y="8434"/>
                </a:moveTo>
                <a:cubicBezTo>
                  <a:pt x="21580" y="8424"/>
                  <a:pt x="21368" y="8376"/>
                  <a:pt x="21258" y="8359"/>
                </a:cubicBezTo>
                <a:cubicBezTo>
                  <a:pt x="21103" y="8336"/>
                  <a:pt x="20987" y="8351"/>
                  <a:pt x="20836" y="8359"/>
                </a:cubicBezTo>
                <a:cubicBezTo>
                  <a:pt x="20711" y="8366"/>
                  <a:pt x="20583" y="8390"/>
                  <a:pt x="20464" y="8359"/>
                </a:cubicBezTo>
                <a:cubicBezTo>
                  <a:pt x="20288" y="8314"/>
                  <a:pt x="20130" y="8220"/>
                  <a:pt x="19943" y="8235"/>
                </a:cubicBezTo>
                <a:cubicBezTo>
                  <a:pt x="19688" y="8256"/>
                  <a:pt x="19428" y="8305"/>
                  <a:pt x="19199" y="8409"/>
                </a:cubicBezTo>
                <a:cubicBezTo>
                  <a:pt x="19073" y="8466"/>
                  <a:pt x="18993" y="8526"/>
                  <a:pt x="18926" y="8657"/>
                </a:cubicBezTo>
                <a:cubicBezTo>
                  <a:pt x="18846" y="8814"/>
                  <a:pt x="18821" y="8965"/>
                  <a:pt x="18827" y="9128"/>
                </a:cubicBezTo>
                <a:cubicBezTo>
                  <a:pt x="18834" y="9313"/>
                  <a:pt x="18874" y="9472"/>
                  <a:pt x="18926" y="9649"/>
                </a:cubicBezTo>
                <a:cubicBezTo>
                  <a:pt x="18984" y="9846"/>
                  <a:pt x="19033" y="10050"/>
                  <a:pt x="19100" y="10244"/>
                </a:cubicBezTo>
                <a:cubicBezTo>
                  <a:pt x="19147" y="10381"/>
                  <a:pt x="19207" y="10402"/>
                  <a:pt x="19323" y="10492"/>
                </a:cubicBezTo>
                <a:cubicBezTo>
                  <a:pt x="19450" y="10591"/>
                  <a:pt x="19632" y="10628"/>
                  <a:pt x="19794" y="10641"/>
                </a:cubicBezTo>
                <a:cubicBezTo>
                  <a:pt x="20013" y="10658"/>
                  <a:pt x="20247" y="10633"/>
                  <a:pt x="20464" y="10616"/>
                </a:cubicBezTo>
                <a:cubicBezTo>
                  <a:pt x="20712" y="10597"/>
                  <a:pt x="20962" y="10588"/>
                  <a:pt x="21208" y="10567"/>
                </a:cubicBezTo>
                <a:cubicBezTo>
                  <a:pt x="21476" y="10544"/>
                  <a:pt x="21704" y="10478"/>
                  <a:pt x="21952" y="10393"/>
                </a:cubicBezTo>
                <a:cubicBezTo>
                  <a:pt x="22153" y="10324"/>
                  <a:pt x="22370" y="10306"/>
                  <a:pt x="22572" y="10244"/>
                </a:cubicBezTo>
                <a:cubicBezTo>
                  <a:pt x="22754" y="10188"/>
                  <a:pt x="22854" y="10136"/>
                  <a:pt x="22944" y="9971"/>
                </a:cubicBezTo>
                <a:cubicBezTo>
                  <a:pt x="23006" y="9857"/>
                  <a:pt x="23071" y="9658"/>
                  <a:pt x="23068" y="9525"/>
                </a:cubicBezTo>
                <a:cubicBezTo>
                  <a:pt x="23065" y="9399"/>
                  <a:pt x="23042" y="9221"/>
                  <a:pt x="22994" y="9103"/>
                </a:cubicBezTo>
                <a:cubicBezTo>
                  <a:pt x="22956" y="9008"/>
                  <a:pt x="22912" y="8903"/>
                  <a:pt x="22870" y="8806"/>
                </a:cubicBezTo>
                <a:cubicBezTo>
                  <a:pt x="22827" y="8706"/>
                  <a:pt x="22770" y="8564"/>
                  <a:pt x="22696" y="8483"/>
                </a:cubicBezTo>
                <a:cubicBezTo>
                  <a:pt x="22631" y="8412"/>
                  <a:pt x="22539" y="8394"/>
                  <a:pt x="22448" y="8384"/>
                </a:cubicBezTo>
                <a:cubicBezTo>
                  <a:pt x="22267" y="8363"/>
                  <a:pt x="22102" y="8422"/>
                  <a:pt x="21927" y="8434"/>
                </a:cubicBezTo>
                <a:cubicBezTo>
                  <a:pt x="21682" y="8450"/>
                  <a:pt x="21422" y="8400"/>
                  <a:pt x="21183" y="8458"/>
                </a:cubicBezTo>
                <a:cubicBezTo>
                  <a:pt x="21104" y="8477"/>
                  <a:pt x="21041" y="8497"/>
                  <a:pt x="20960" y="8508"/>
                </a:cubicBezTo>
                <a:cubicBezTo>
                  <a:pt x="20943" y="8508"/>
                  <a:pt x="20927" y="8508"/>
                  <a:pt x="20910" y="85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1960" y="3456000"/>
            <a:ext cx="162000" cy="125280"/>
          </a:xfrm>
          <a:custGeom>
            <a:avLst/>
            <a:gdLst/>
            <a:ahLst/>
            <a:rect l="l" t="t" r="r" b="b"/>
            <a:pathLst>
              <a:path w="447" h="349">
                <a:moveTo>
                  <a:pt x="8062" y="9773"/>
                </a:moveTo>
                <a:cubicBezTo>
                  <a:pt x="8144" y="9752"/>
                  <a:pt x="8159" y="9744"/>
                  <a:pt x="8210" y="9748"/>
                </a:cubicBezTo>
              </a:path>
              <a:path w="447" h="349">
                <a:moveTo>
                  <a:pt x="8260" y="9599"/>
                </a:moveTo>
                <a:lnTo>
                  <a:pt x="8260" y="9599"/>
                </a:lnTo>
              </a:path>
              <a:path w="447" h="349">
                <a:moveTo>
                  <a:pt x="8161" y="9872"/>
                </a:moveTo>
                <a:lnTo>
                  <a:pt x="8161" y="9872"/>
                </a:lnTo>
              </a:path>
              <a:path w="447" h="349">
                <a:moveTo>
                  <a:pt x="8334" y="9723"/>
                </a:moveTo>
                <a:cubicBezTo>
                  <a:pt x="8335" y="9663"/>
                  <a:pt x="8367" y="9644"/>
                  <a:pt x="8434" y="9599"/>
                </a:cubicBezTo>
                <a:cubicBezTo>
                  <a:pt x="8440" y="9644"/>
                  <a:pt x="8510" y="9818"/>
                  <a:pt x="8508" y="9823"/>
                </a:cubicBezTo>
                <a:cubicBezTo>
                  <a:pt x="8437" y="9894"/>
                  <a:pt x="8417" y="9916"/>
                  <a:pt x="8359" y="99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36960" y="3017880"/>
            <a:ext cx="214200" cy="16992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8434" y="8756"/>
                </a:moveTo>
                <a:cubicBezTo>
                  <a:pt x="8478" y="8696"/>
                  <a:pt x="8514" y="8670"/>
                  <a:pt x="8582" y="8632"/>
                </a:cubicBezTo>
              </a:path>
              <a:path w="596" h="472">
                <a:moveTo>
                  <a:pt x="8582" y="8384"/>
                </a:moveTo>
                <a:lnTo>
                  <a:pt x="8582" y="8384"/>
                </a:lnTo>
              </a:path>
              <a:path w="596" h="472">
                <a:moveTo>
                  <a:pt x="8582" y="8806"/>
                </a:moveTo>
                <a:lnTo>
                  <a:pt x="8582" y="8806"/>
                </a:lnTo>
              </a:path>
              <a:path w="596" h="472">
                <a:moveTo>
                  <a:pt x="8781" y="8508"/>
                </a:moveTo>
                <a:cubicBezTo>
                  <a:pt x="8870" y="8383"/>
                  <a:pt x="8879" y="8462"/>
                  <a:pt x="8830" y="8582"/>
                </a:cubicBezTo>
                <a:cubicBezTo>
                  <a:pt x="8822" y="8599"/>
                  <a:pt x="8814" y="8615"/>
                  <a:pt x="8806" y="8632"/>
                </a:cubicBezTo>
                <a:cubicBezTo>
                  <a:pt x="8890" y="8576"/>
                  <a:pt x="8926" y="8559"/>
                  <a:pt x="9004" y="8582"/>
                </a:cubicBezTo>
                <a:cubicBezTo>
                  <a:pt x="9004" y="8730"/>
                  <a:pt x="8946" y="8745"/>
                  <a:pt x="8830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8880" y="2286000"/>
            <a:ext cx="492120" cy="1581120"/>
          </a:xfrm>
          <a:custGeom>
            <a:avLst/>
            <a:gdLst/>
            <a:ahLst/>
            <a:rect l="l" t="t" r="r" b="b"/>
            <a:pathLst>
              <a:path w="1366" h="4391">
                <a:moveTo>
                  <a:pt x="2158" y="8830"/>
                </a:moveTo>
                <a:cubicBezTo>
                  <a:pt x="2209" y="8705"/>
                  <a:pt x="2358" y="8790"/>
                  <a:pt x="2381" y="8905"/>
                </a:cubicBezTo>
                <a:cubicBezTo>
                  <a:pt x="2427" y="9132"/>
                  <a:pt x="2185" y="9135"/>
                  <a:pt x="2108" y="9029"/>
                </a:cubicBezTo>
                <a:cubicBezTo>
                  <a:pt x="2210" y="9019"/>
                  <a:pt x="2337" y="8982"/>
                  <a:pt x="2431" y="9054"/>
                </a:cubicBezTo>
                <a:cubicBezTo>
                  <a:pt x="2451" y="9094"/>
                  <a:pt x="2460" y="9100"/>
                  <a:pt x="2456" y="9128"/>
                </a:cubicBezTo>
              </a:path>
              <a:path w="1366" h="4391">
                <a:moveTo>
                  <a:pt x="2629" y="7813"/>
                </a:moveTo>
                <a:lnTo>
                  <a:pt x="2629" y="7813"/>
                </a:lnTo>
              </a:path>
              <a:path w="1366" h="4391">
                <a:moveTo>
                  <a:pt x="2604" y="7169"/>
                </a:moveTo>
                <a:lnTo>
                  <a:pt x="2604" y="7169"/>
                </a:lnTo>
              </a:path>
              <a:path w="1366" h="4391">
                <a:moveTo>
                  <a:pt x="2902" y="7516"/>
                </a:moveTo>
                <a:cubicBezTo>
                  <a:pt x="2768" y="7549"/>
                  <a:pt x="2750" y="7681"/>
                  <a:pt x="2803" y="7813"/>
                </a:cubicBezTo>
                <a:cubicBezTo>
                  <a:pt x="2865" y="7966"/>
                  <a:pt x="3125" y="7762"/>
                  <a:pt x="3125" y="7665"/>
                </a:cubicBezTo>
                <a:cubicBezTo>
                  <a:pt x="3125" y="7581"/>
                  <a:pt x="2951" y="7573"/>
                  <a:pt x="2902" y="7565"/>
                </a:cubicBezTo>
              </a:path>
              <a:path w="1366" h="4391">
                <a:moveTo>
                  <a:pt x="2853" y="8037"/>
                </a:moveTo>
                <a:cubicBezTo>
                  <a:pt x="2839" y="8193"/>
                  <a:pt x="2844" y="8352"/>
                  <a:pt x="2828" y="8508"/>
                </a:cubicBezTo>
                <a:cubicBezTo>
                  <a:pt x="2808" y="8607"/>
                  <a:pt x="2800" y="8623"/>
                  <a:pt x="2803" y="8682"/>
                </a:cubicBezTo>
              </a:path>
              <a:path w="1366" h="4391">
                <a:moveTo>
                  <a:pt x="2803" y="8905"/>
                </a:moveTo>
                <a:cubicBezTo>
                  <a:pt x="2803" y="8802"/>
                  <a:pt x="2792" y="8787"/>
                  <a:pt x="2704" y="8731"/>
                </a:cubicBezTo>
                <a:cubicBezTo>
                  <a:pt x="2678" y="8803"/>
                  <a:pt x="2574" y="9060"/>
                  <a:pt x="2729" y="9054"/>
                </a:cubicBezTo>
                <a:cubicBezTo>
                  <a:pt x="2849" y="9050"/>
                  <a:pt x="2869" y="8967"/>
                  <a:pt x="2927" y="8880"/>
                </a:cubicBezTo>
                <a:cubicBezTo>
                  <a:pt x="2882" y="8835"/>
                  <a:pt x="2873" y="8818"/>
                  <a:pt x="2828" y="8830"/>
                </a:cubicBezTo>
              </a:path>
              <a:path w="1366" h="4391">
                <a:moveTo>
                  <a:pt x="2877" y="6672"/>
                </a:moveTo>
                <a:cubicBezTo>
                  <a:pt x="2836" y="6790"/>
                  <a:pt x="2828" y="6869"/>
                  <a:pt x="2828" y="6995"/>
                </a:cubicBezTo>
                <a:cubicBezTo>
                  <a:pt x="2929" y="7018"/>
                  <a:pt x="2972" y="6993"/>
                  <a:pt x="3051" y="6921"/>
                </a:cubicBezTo>
                <a:cubicBezTo>
                  <a:pt x="3059" y="6913"/>
                  <a:pt x="3068" y="6904"/>
                  <a:pt x="3076" y="6896"/>
                </a:cubicBezTo>
                <a:cubicBezTo>
                  <a:pt x="2937" y="6861"/>
                  <a:pt x="2970" y="6883"/>
                  <a:pt x="2902" y="6995"/>
                </a:cubicBezTo>
              </a:path>
              <a:path w="1366" h="4391">
                <a:moveTo>
                  <a:pt x="2332" y="9277"/>
                </a:moveTo>
                <a:cubicBezTo>
                  <a:pt x="2325" y="9337"/>
                  <a:pt x="2314" y="9391"/>
                  <a:pt x="2307" y="9451"/>
                </a:cubicBezTo>
              </a:path>
              <a:path w="1366" h="4391">
                <a:moveTo>
                  <a:pt x="2853" y="9252"/>
                </a:moveTo>
                <a:cubicBezTo>
                  <a:pt x="2555" y="9327"/>
                  <a:pt x="2823" y="9271"/>
                  <a:pt x="2753" y="9401"/>
                </a:cubicBezTo>
                <a:cubicBezTo>
                  <a:pt x="2737" y="9409"/>
                  <a:pt x="2720" y="9418"/>
                  <a:pt x="2704" y="9426"/>
                </a:cubicBezTo>
                <a:cubicBezTo>
                  <a:pt x="2673" y="9348"/>
                  <a:pt x="2731" y="9322"/>
                  <a:pt x="2803" y="9277"/>
                </a:cubicBezTo>
              </a:path>
              <a:path w="1366" h="4391">
                <a:moveTo>
                  <a:pt x="2133" y="9550"/>
                </a:moveTo>
                <a:cubicBezTo>
                  <a:pt x="2364" y="9523"/>
                  <a:pt x="2596" y="9490"/>
                  <a:pt x="2828" y="9475"/>
                </a:cubicBezTo>
              </a:path>
              <a:path w="1366" h="4391">
                <a:moveTo>
                  <a:pt x="2555" y="9773"/>
                </a:moveTo>
                <a:cubicBezTo>
                  <a:pt x="2616" y="9745"/>
                  <a:pt x="2663" y="9730"/>
                  <a:pt x="2729" y="9723"/>
                </a:cubicBezTo>
                <a:cubicBezTo>
                  <a:pt x="2696" y="9815"/>
                  <a:pt x="2548" y="10009"/>
                  <a:pt x="2604" y="10021"/>
                </a:cubicBezTo>
                <a:cubicBezTo>
                  <a:pt x="2697" y="10021"/>
                  <a:pt x="2723" y="10023"/>
                  <a:pt x="2778" y="9996"/>
                </a:cubicBezTo>
              </a:path>
              <a:path w="1366" h="4391">
                <a:moveTo>
                  <a:pt x="3473" y="7565"/>
                </a:moveTo>
                <a:cubicBezTo>
                  <a:pt x="3448" y="7516"/>
                  <a:pt x="3439" y="7499"/>
                  <a:pt x="3398" y="7491"/>
                </a:cubicBezTo>
                <a:cubicBezTo>
                  <a:pt x="3263" y="7645"/>
                  <a:pt x="3189" y="7749"/>
                  <a:pt x="3324" y="7913"/>
                </a:cubicBezTo>
                <a:cubicBezTo>
                  <a:pt x="3454" y="7815"/>
                  <a:pt x="3511" y="7786"/>
                  <a:pt x="3423" y="7640"/>
                </a:cubicBezTo>
              </a:path>
              <a:path w="1366" h="4391">
                <a:moveTo>
                  <a:pt x="3274" y="8012"/>
                </a:moveTo>
                <a:cubicBezTo>
                  <a:pt x="3232" y="8305"/>
                  <a:pt x="3172" y="8571"/>
                  <a:pt x="3101" y="8855"/>
                </a:cubicBezTo>
                <a:cubicBezTo>
                  <a:pt x="3074" y="8964"/>
                  <a:pt x="3082" y="9098"/>
                  <a:pt x="3051" y="9203"/>
                </a:cubicBezTo>
                <a:cubicBezTo>
                  <a:pt x="3027" y="9251"/>
                  <a:pt x="3018" y="9265"/>
                  <a:pt x="3026" y="9302"/>
                </a:cubicBezTo>
              </a:path>
              <a:path w="1366" h="4391">
                <a:moveTo>
                  <a:pt x="3001" y="9823"/>
                </a:moveTo>
                <a:cubicBezTo>
                  <a:pt x="2886" y="9787"/>
                  <a:pt x="2834" y="9831"/>
                  <a:pt x="2803" y="9971"/>
                </a:cubicBezTo>
                <a:cubicBezTo>
                  <a:pt x="2912" y="10032"/>
                  <a:pt x="3038" y="9985"/>
                  <a:pt x="3051" y="9823"/>
                </a:cubicBezTo>
                <a:cubicBezTo>
                  <a:pt x="3023" y="9768"/>
                  <a:pt x="3009" y="9751"/>
                  <a:pt x="2952" y="9773"/>
                </a:cubicBezTo>
              </a:path>
              <a:path w="1366" h="4391">
                <a:moveTo>
                  <a:pt x="3299" y="6722"/>
                </a:moveTo>
                <a:cubicBezTo>
                  <a:pt x="3261" y="6853"/>
                  <a:pt x="3233" y="6986"/>
                  <a:pt x="3200" y="7119"/>
                </a:cubicBezTo>
                <a:cubicBezTo>
                  <a:pt x="3335" y="7136"/>
                  <a:pt x="3405" y="7156"/>
                  <a:pt x="3473" y="7020"/>
                </a:cubicBezTo>
                <a:cubicBezTo>
                  <a:pt x="3364" y="6993"/>
                  <a:pt x="3350" y="7027"/>
                  <a:pt x="3324" y="7144"/>
                </a:cubicBezTo>
                <a:cubicBezTo>
                  <a:pt x="3324" y="7152"/>
                  <a:pt x="3324" y="7161"/>
                  <a:pt x="3324" y="7169"/>
                </a:cubicBezTo>
              </a:path>
              <a:path w="1366" h="4391">
                <a:moveTo>
                  <a:pt x="2530" y="10120"/>
                </a:moveTo>
                <a:cubicBezTo>
                  <a:pt x="2550" y="10219"/>
                  <a:pt x="2558" y="10235"/>
                  <a:pt x="2555" y="10294"/>
                </a:cubicBezTo>
              </a:path>
              <a:path w="1366" h="4391">
                <a:moveTo>
                  <a:pt x="2902" y="10145"/>
                </a:moveTo>
                <a:cubicBezTo>
                  <a:pt x="2658" y="10166"/>
                  <a:pt x="2850" y="10152"/>
                  <a:pt x="2877" y="10269"/>
                </a:cubicBezTo>
                <a:cubicBezTo>
                  <a:pt x="2894" y="10343"/>
                  <a:pt x="2731" y="10371"/>
                  <a:pt x="2877" y="10244"/>
                </a:cubicBezTo>
              </a:path>
              <a:path w="1366" h="4391">
                <a:moveTo>
                  <a:pt x="2257" y="10393"/>
                </a:moveTo>
                <a:cubicBezTo>
                  <a:pt x="2453" y="10315"/>
                  <a:pt x="2619" y="10361"/>
                  <a:pt x="2828" y="10368"/>
                </a:cubicBezTo>
                <a:cubicBezTo>
                  <a:pt x="2959" y="10373"/>
                  <a:pt x="3094" y="10368"/>
                  <a:pt x="3225" y="10368"/>
                </a:cubicBezTo>
              </a:path>
              <a:path w="1366" h="4391">
                <a:moveTo>
                  <a:pt x="2183" y="10220"/>
                </a:moveTo>
                <a:cubicBezTo>
                  <a:pt x="2233" y="10220"/>
                  <a:pt x="2282" y="10220"/>
                  <a:pt x="2332" y="10220"/>
                </a:cubicBezTo>
              </a:path>
              <a:path w="1366" h="4391">
                <a:moveTo>
                  <a:pt x="2778" y="10443"/>
                </a:moveTo>
                <a:cubicBezTo>
                  <a:pt x="2878" y="10450"/>
                  <a:pt x="3015" y="10452"/>
                  <a:pt x="2977" y="10616"/>
                </a:cubicBezTo>
                <a:cubicBezTo>
                  <a:pt x="2945" y="10753"/>
                  <a:pt x="2744" y="10754"/>
                  <a:pt x="3001" y="10691"/>
                </a:cubicBezTo>
                <a:cubicBezTo>
                  <a:pt x="3018" y="10691"/>
                  <a:pt x="3034" y="10691"/>
                  <a:pt x="3051" y="10691"/>
                </a:cubicBezTo>
              </a:path>
              <a:path w="1366" h="4391">
                <a:moveTo>
                  <a:pt x="3324" y="6350"/>
                </a:moveTo>
                <a:cubicBezTo>
                  <a:pt x="3324" y="6391"/>
                  <a:pt x="3324" y="6416"/>
                  <a:pt x="3324" y="6449"/>
                </a:cubicBezTo>
              </a:path>
              <a:path w="1366" h="4391">
                <a:moveTo>
                  <a:pt x="3249" y="6499"/>
                </a:moveTo>
                <a:cubicBezTo>
                  <a:pt x="3322" y="6531"/>
                  <a:pt x="3368" y="6542"/>
                  <a:pt x="3448" y="65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4120" y="5483160"/>
            <a:ext cx="285840" cy="20484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1067" y="15627"/>
                </a:moveTo>
                <a:cubicBezTo>
                  <a:pt x="1254" y="15529"/>
                  <a:pt x="1398" y="15485"/>
                  <a:pt x="1612" y="15478"/>
                </a:cubicBezTo>
                <a:cubicBezTo>
                  <a:pt x="1653" y="15477"/>
                  <a:pt x="1695" y="15478"/>
                  <a:pt x="1736" y="15478"/>
                </a:cubicBezTo>
              </a:path>
              <a:path w="794" h="572">
                <a:moveTo>
                  <a:pt x="1488" y="15230"/>
                </a:moveTo>
                <a:cubicBezTo>
                  <a:pt x="1639" y="15271"/>
                  <a:pt x="1733" y="15312"/>
                  <a:pt x="1860" y="15404"/>
                </a:cubicBezTo>
                <a:cubicBezTo>
                  <a:pt x="1795" y="15542"/>
                  <a:pt x="1726" y="15678"/>
                  <a:pt x="1637" y="15801"/>
                </a:cubicBezTo>
              </a:path>
              <a:path w="794" h="572">
                <a:moveTo>
                  <a:pt x="1091" y="15726"/>
                </a:moveTo>
                <a:cubicBezTo>
                  <a:pt x="1093" y="15569"/>
                  <a:pt x="1274" y="15618"/>
                  <a:pt x="1414" y="15602"/>
                </a:cubicBezTo>
                <a:cubicBezTo>
                  <a:pt x="1523" y="15590"/>
                  <a:pt x="1628" y="15563"/>
                  <a:pt x="1736" y="155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760" y="5892840"/>
            <a:ext cx="250560" cy="216000"/>
          </a:xfrm>
          <a:custGeom>
            <a:avLst/>
            <a:gdLst/>
            <a:ahLst/>
            <a:rect l="l" t="t" r="r" b="b"/>
            <a:pathLst>
              <a:path w="696" h="596">
                <a:moveTo>
                  <a:pt x="1687" y="16743"/>
                </a:moveTo>
                <a:lnTo>
                  <a:pt x="1687" y="16743"/>
                </a:lnTo>
              </a:path>
              <a:path w="696" h="596">
                <a:moveTo>
                  <a:pt x="1265" y="16669"/>
                </a:moveTo>
                <a:cubicBezTo>
                  <a:pt x="1430" y="16627"/>
                  <a:pt x="1557" y="16576"/>
                  <a:pt x="1736" y="16570"/>
                </a:cubicBezTo>
                <a:cubicBezTo>
                  <a:pt x="1786" y="16568"/>
                  <a:pt x="1835" y="16570"/>
                  <a:pt x="1885" y="16570"/>
                </a:cubicBezTo>
              </a:path>
              <a:path w="696" h="596">
                <a:moveTo>
                  <a:pt x="1637" y="16396"/>
                </a:moveTo>
                <a:cubicBezTo>
                  <a:pt x="1761" y="16369"/>
                  <a:pt x="1848" y="16356"/>
                  <a:pt x="1960" y="16421"/>
                </a:cubicBezTo>
                <a:cubicBezTo>
                  <a:pt x="1938" y="16571"/>
                  <a:pt x="1879" y="16685"/>
                  <a:pt x="1811" y="16818"/>
                </a:cubicBezTo>
                <a:cubicBezTo>
                  <a:pt x="1769" y="16900"/>
                  <a:pt x="1761" y="16917"/>
                  <a:pt x="1736" y="169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55800" y="6419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654" y="17835"/>
                </a:moveTo>
                <a:lnTo>
                  <a:pt x="2654" y="178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4040" y="2687760"/>
            <a:ext cx="169920" cy="196560"/>
          </a:xfrm>
          <a:custGeom>
            <a:avLst/>
            <a:gdLst/>
            <a:ahLst/>
            <a:rect l="l" t="t" r="r" b="b"/>
            <a:pathLst>
              <a:path w="472" h="547">
                <a:moveTo>
                  <a:pt x="1761" y="7541"/>
                </a:moveTo>
                <a:cubicBezTo>
                  <a:pt x="1745" y="7541"/>
                  <a:pt x="1728" y="7541"/>
                  <a:pt x="1712" y="7541"/>
                </a:cubicBezTo>
                <a:cubicBezTo>
                  <a:pt x="1941" y="7448"/>
                  <a:pt x="1973" y="7688"/>
                  <a:pt x="1836" y="7888"/>
                </a:cubicBezTo>
                <a:cubicBezTo>
                  <a:pt x="1727" y="8046"/>
                  <a:pt x="1639" y="8011"/>
                  <a:pt x="1538" y="7938"/>
                </a:cubicBezTo>
                <a:cubicBezTo>
                  <a:pt x="1645" y="7754"/>
                  <a:pt x="1790" y="7748"/>
                  <a:pt x="1960" y="7913"/>
                </a:cubicBezTo>
                <a:cubicBezTo>
                  <a:pt x="1976" y="7946"/>
                  <a:pt x="1993" y="7979"/>
                  <a:pt x="2009" y="80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8880" y="2652840"/>
            <a:ext cx="142920" cy="196560"/>
          </a:xfrm>
          <a:custGeom>
            <a:avLst/>
            <a:gdLst/>
            <a:ahLst/>
            <a:rect l="l" t="t" r="r" b="b"/>
            <a:pathLst>
              <a:path w="398" h="547">
                <a:moveTo>
                  <a:pt x="2208" y="7491"/>
                </a:moveTo>
                <a:cubicBezTo>
                  <a:pt x="2225" y="7446"/>
                  <a:pt x="2330" y="7288"/>
                  <a:pt x="2381" y="7417"/>
                </a:cubicBezTo>
                <a:cubicBezTo>
                  <a:pt x="2405" y="7478"/>
                  <a:pt x="2357" y="7540"/>
                  <a:pt x="2332" y="7590"/>
                </a:cubicBezTo>
                <a:cubicBezTo>
                  <a:pt x="2424" y="7590"/>
                  <a:pt x="2450" y="7588"/>
                  <a:pt x="2505" y="7615"/>
                </a:cubicBezTo>
                <a:cubicBezTo>
                  <a:pt x="2472" y="7822"/>
                  <a:pt x="2416" y="7921"/>
                  <a:pt x="2183" y="7888"/>
                </a:cubicBezTo>
                <a:cubicBezTo>
                  <a:pt x="2158" y="7880"/>
                  <a:pt x="2133" y="7871"/>
                  <a:pt x="2108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8120" y="2625840"/>
            <a:ext cx="581040" cy="339480"/>
          </a:xfrm>
          <a:custGeom>
            <a:avLst/>
            <a:gdLst/>
            <a:ahLst/>
            <a:rect l="l" t="t" r="r" b="b"/>
            <a:pathLst>
              <a:path w="1614" h="943">
                <a:moveTo>
                  <a:pt x="1315" y="8235"/>
                </a:moveTo>
                <a:cubicBezTo>
                  <a:pt x="1283" y="8063"/>
                  <a:pt x="1230" y="7894"/>
                  <a:pt x="1215" y="7714"/>
                </a:cubicBezTo>
                <a:cubicBezTo>
                  <a:pt x="1207" y="7624"/>
                  <a:pt x="1193" y="7465"/>
                  <a:pt x="1265" y="7392"/>
                </a:cubicBezTo>
                <a:cubicBezTo>
                  <a:pt x="1433" y="7224"/>
                  <a:pt x="1939" y="7287"/>
                  <a:pt x="2133" y="7293"/>
                </a:cubicBezTo>
                <a:cubicBezTo>
                  <a:pt x="2372" y="7300"/>
                  <a:pt x="2598" y="7316"/>
                  <a:pt x="2828" y="73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5920" y="2687760"/>
            <a:ext cx="179280" cy="179280"/>
          </a:xfrm>
          <a:custGeom>
            <a:avLst/>
            <a:gdLst/>
            <a:ahLst/>
            <a:rect l="l" t="t" r="r" b="b"/>
            <a:pathLst>
              <a:path w="498" h="497">
                <a:moveTo>
                  <a:pt x="372" y="7615"/>
                </a:moveTo>
                <a:cubicBezTo>
                  <a:pt x="469" y="7558"/>
                  <a:pt x="609" y="7488"/>
                  <a:pt x="719" y="7466"/>
                </a:cubicBezTo>
                <a:cubicBezTo>
                  <a:pt x="752" y="7466"/>
                  <a:pt x="786" y="7466"/>
                  <a:pt x="819" y="7466"/>
                </a:cubicBezTo>
                <a:cubicBezTo>
                  <a:pt x="746" y="7639"/>
                  <a:pt x="721" y="7651"/>
                  <a:pt x="546" y="7739"/>
                </a:cubicBezTo>
                <a:cubicBezTo>
                  <a:pt x="459" y="7696"/>
                  <a:pt x="677" y="7690"/>
                  <a:pt x="645" y="7838"/>
                </a:cubicBezTo>
                <a:cubicBezTo>
                  <a:pt x="608" y="8011"/>
                  <a:pt x="420" y="7958"/>
                  <a:pt x="322" y="7913"/>
                </a:cubicBezTo>
                <a:cubicBezTo>
                  <a:pt x="414" y="7918"/>
                  <a:pt x="482" y="7925"/>
                  <a:pt x="571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6160" y="2411280"/>
            <a:ext cx="117720" cy="125640"/>
          </a:xfrm>
          <a:custGeom>
            <a:avLst/>
            <a:gdLst/>
            <a:ahLst/>
            <a:rect l="l" t="t" r="r" b="b"/>
            <a:pathLst>
              <a:path w="323" h="349">
                <a:moveTo>
                  <a:pt x="2158" y="6796"/>
                </a:moveTo>
                <a:cubicBezTo>
                  <a:pt x="2158" y="6850"/>
                  <a:pt x="2262" y="6766"/>
                  <a:pt x="2381" y="6722"/>
                </a:cubicBezTo>
                <a:cubicBezTo>
                  <a:pt x="2431" y="6697"/>
                  <a:pt x="2447" y="6689"/>
                  <a:pt x="2480" y="6722"/>
                </a:cubicBezTo>
                <a:cubicBezTo>
                  <a:pt x="2445" y="6829"/>
                  <a:pt x="2411" y="6936"/>
                  <a:pt x="2381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8040" y="2919240"/>
            <a:ext cx="79200" cy="117720"/>
          </a:xfrm>
          <a:custGeom>
            <a:avLst/>
            <a:gdLst/>
            <a:ahLst/>
            <a:rect l="l" t="t" r="r" b="b"/>
            <a:pathLst>
              <a:path w="224" h="324">
                <a:moveTo>
                  <a:pt x="1712" y="8186"/>
                </a:moveTo>
                <a:cubicBezTo>
                  <a:pt x="1763" y="8134"/>
                  <a:pt x="1782" y="8116"/>
                  <a:pt x="1836" y="8111"/>
                </a:cubicBezTo>
                <a:cubicBezTo>
                  <a:pt x="1920" y="8228"/>
                  <a:pt x="1909" y="8355"/>
                  <a:pt x="1736" y="8434"/>
                </a:cubicBezTo>
                <a:cubicBezTo>
                  <a:pt x="1720" y="8434"/>
                  <a:pt x="1703" y="8434"/>
                  <a:pt x="1687" y="8434"/>
                </a:cubicBezTo>
                <a:cubicBezTo>
                  <a:pt x="1687" y="8341"/>
                  <a:pt x="1756" y="8236"/>
                  <a:pt x="1860" y="8334"/>
                </a:cubicBezTo>
                <a:cubicBezTo>
                  <a:pt x="1880" y="8395"/>
                  <a:pt x="1878" y="8410"/>
                  <a:pt x="1910" y="84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160" y="2919240"/>
            <a:ext cx="9720" cy="98640"/>
          </a:xfrm>
          <a:custGeom>
            <a:avLst/>
            <a:gdLst/>
            <a:ahLst/>
            <a:rect l="l" t="t" r="r" b="b"/>
            <a:pathLst>
              <a:path w="26" h="274">
                <a:moveTo>
                  <a:pt x="2307" y="8111"/>
                </a:moveTo>
                <a:cubicBezTo>
                  <a:pt x="2342" y="8192"/>
                  <a:pt x="2332" y="8288"/>
                  <a:pt x="2332" y="83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0040" y="2982960"/>
            <a:ext cx="4464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1389" y="8310"/>
                </a:moveTo>
                <a:cubicBezTo>
                  <a:pt x="1448" y="8310"/>
                  <a:pt x="1474" y="8307"/>
                  <a:pt x="1513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960" y="3089160"/>
            <a:ext cx="331920" cy="9720"/>
          </a:xfrm>
          <a:custGeom>
            <a:avLst/>
            <a:gdLst/>
            <a:ahLst/>
            <a:rect l="l" t="t" r="r" b="b"/>
            <a:pathLst>
              <a:path w="919" h="26">
                <a:moveTo>
                  <a:pt x="1488" y="8607"/>
                </a:moveTo>
                <a:cubicBezTo>
                  <a:pt x="1755" y="8607"/>
                  <a:pt x="2046" y="8568"/>
                  <a:pt x="2307" y="8582"/>
                </a:cubicBezTo>
                <a:cubicBezTo>
                  <a:pt x="2364" y="8601"/>
                  <a:pt x="2371" y="8610"/>
                  <a:pt x="2406" y="86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Students will determine and use unit r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unit rate and propor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Students will determine and use unit rates.</a:t>
            </a:r>
            <a:br>
              <a:rPr sz="1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it Ti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If five CDs cost $30, how much do fourteen CDs cost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Marisa can type 9 pages in 12 minutes.  How many pages can she type in 72 minu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If Joey walked 12 miles in 2 hours and Chris walked 15 miles in 3 hours, who walked fas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1: Complete 10 problems on front and 10 on back of the practice pages we started in class as review for tomorrow’s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 2:  All problems on the practice pages we started in class as review for tomorrow’s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z on proportions, ratios and unit rat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01:49:42Z</dcterms:created>
  <dc:creator>Brian McGrath</dc:creator>
  <dc:description/>
  <dc:language>en-US</dc:language>
  <cp:lastModifiedBy>deanne elizabeth mcgrath</cp:lastModifiedBy>
  <dcterms:modified xsi:type="dcterms:W3CDTF">2010-05-11T17:47:58Z</dcterms:modified>
  <cp:revision>5</cp:revision>
  <dc:subject/>
  <dc:title>Warm-up</dc:title>
</cp:coreProperties>
</file>